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4775-BC6F-4F7E-9B0F-540279CF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E0A-913C-4C63-90CC-82D474B3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AF84-0AB5-4F42-9E42-52C6F516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F64-3F6F-4863-B283-2D8C89DE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2C9-3982-467A-BDEA-DDCBF6EF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224-7741-4AE2-A4BC-F65D9D5D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CE6-24BC-421B-8F65-B1CF5EC3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1BF4-296D-47C4-8F20-61C4C484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176-E489-480E-B4DA-FB9C95E7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DEB-CF7A-4167-B3C1-AFF7EE2B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F31F-A1D7-40A1-8135-CCDD6391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19E-EC3B-4F80-8C0F-C45FCC69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2FB4-6042-46C3-A852-1A352A7BA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" y="1752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hex_2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5276880" cy="4496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440" y="6629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rund_2" descr=""/>
          <p:cNvPicPr/>
          <p:nvPr/>
        </p:nvPicPr>
        <p:blipFill>
          <a:blip r:embed="rId2"/>
          <a:stretch/>
        </p:blipFill>
        <p:spPr>
          <a:xfrm>
            <a:off x="1523880" y="5105520"/>
            <a:ext cx="456264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0" y="1752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ittel_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5391000" cy="4486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40" y="6629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mittel_2" descr=""/>
          <p:cNvPicPr/>
          <p:nvPr/>
        </p:nvPicPr>
        <p:blipFill>
          <a:blip r:embed="rId2"/>
          <a:stretch/>
        </p:blipFill>
        <p:spPr>
          <a:xfrm>
            <a:off x="1295280" y="5029200"/>
            <a:ext cx="5295960" cy="456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298440"/>
            <a:ext cx="5257800" cy="4349880"/>
          </a:xfrm>
          <a:custGeom>
            <a:avLst/>
            <a:gdLst/>
            <a:ahLst/>
            <a:rect l="l" t="t" r="r" b="b"/>
            <a:pathLst>
              <a:path w="3312" h="2740">
                <a:moveTo>
                  <a:pt x="0" y="4"/>
                </a:moveTo>
                <a:lnTo>
                  <a:pt x="96" y="4"/>
                </a:lnTo>
                <a:lnTo>
                  <a:pt x="96" y="388"/>
                </a:lnTo>
                <a:lnTo>
                  <a:pt x="0" y="388"/>
                </a:lnTo>
                <a:lnTo>
                  <a:pt x="0" y="676"/>
                </a:lnTo>
                <a:lnTo>
                  <a:pt x="96" y="676"/>
                </a:lnTo>
                <a:lnTo>
                  <a:pt x="96" y="772"/>
                </a:lnTo>
                <a:lnTo>
                  <a:pt x="192" y="772"/>
                </a:lnTo>
                <a:lnTo>
                  <a:pt x="192" y="868"/>
                </a:lnTo>
                <a:lnTo>
                  <a:pt x="240" y="868"/>
                </a:lnTo>
                <a:lnTo>
                  <a:pt x="240" y="964"/>
                </a:lnTo>
                <a:lnTo>
                  <a:pt x="192" y="964"/>
                </a:lnTo>
                <a:lnTo>
                  <a:pt x="192" y="1060"/>
                </a:lnTo>
                <a:lnTo>
                  <a:pt x="336" y="1060"/>
                </a:lnTo>
                <a:lnTo>
                  <a:pt x="336" y="1156"/>
                </a:lnTo>
                <a:lnTo>
                  <a:pt x="96" y="1156"/>
                </a:lnTo>
                <a:lnTo>
                  <a:pt x="96" y="1348"/>
                </a:lnTo>
                <a:lnTo>
                  <a:pt x="0" y="1348"/>
                </a:lnTo>
                <a:lnTo>
                  <a:pt x="4" y="1696"/>
                </a:lnTo>
                <a:lnTo>
                  <a:pt x="188" y="1704"/>
                </a:lnTo>
                <a:lnTo>
                  <a:pt x="192" y="1588"/>
                </a:lnTo>
                <a:lnTo>
                  <a:pt x="268" y="1584"/>
                </a:lnTo>
                <a:lnTo>
                  <a:pt x="260" y="1688"/>
                </a:lnTo>
                <a:lnTo>
                  <a:pt x="432" y="1684"/>
                </a:lnTo>
                <a:lnTo>
                  <a:pt x="432" y="1972"/>
                </a:lnTo>
                <a:lnTo>
                  <a:pt x="356" y="1976"/>
                </a:lnTo>
                <a:lnTo>
                  <a:pt x="352" y="1772"/>
                </a:lnTo>
                <a:lnTo>
                  <a:pt x="260" y="1776"/>
                </a:lnTo>
                <a:lnTo>
                  <a:pt x="268" y="1980"/>
                </a:lnTo>
                <a:lnTo>
                  <a:pt x="192" y="1972"/>
                </a:lnTo>
                <a:lnTo>
                  <a:pt x="192" y="1780"/>
                </a:lnTo>
                <a:lnTo>
                  <a:pt x="96" y="1780"/>
                </a:lnTo>
                <a:lnTo>
                  <a:pt x="96" y="1876"/>
                </a:lnTo>
                <a:lnTo>
                  <a:pt x="0" y="1876"/>
                </a:lnTo>
                <a:lnTo>
                  <a:pt x="0" y="1972"/>
                </a:lnTo>
                <a:lnTo>
                  <a:pt x="96" y="1972"/>
                </a:lnTo>
                <a:lnTo>
                  <a:pt x="96" y="2164"/>
                </a:lnTo>
                <a:lnTo>
                  <a:pt x="0" y="2164"/>
                </a:lnTo>
                <a:lnTo>
                  <a:pt x="8" y="2348"/>
                </a:lnTo>
                <a:lnTo>
                  <a:pt x="180" y="2336"/>
                </a:lnTo>
                <a:lnTo>
                  <a:pt x="180" y="2252"/>
                </a:lnTo>
                <a:lnTo>
                  <a:pt x="272" y="2256"/>
                </a:lnTo>
                <a:lnTo>
                  <a:pt x="280" y="2164"/>
                </a:lnTo>
                <a:lnTo>
                  <a:pt x="192" y="2164"/>
                </a:lnTo>
                <a:lnTo>
                  <a:pt x="192" y="2068"/>
                </a:lnTo>
                <a:lnTo>
                  <a:pt x="348" y="2060"/>
                </a:lnTo>
                <a:lnTo>
                  <a:pt x="348" y="2264"/>
                </a:lnTo>
                <a:lnTo>
                  <a:pt x="432" y="2260"/>
                </a:lnTo>
                <a:lnTo>
                  <a:pt x="432" y="2356"/>
                </a:lnTo>
                <a:lnTo>
                  <a:pt x="348" y="2352"/>
                </a:lnTo>
                <a:lnTo>
                  <a:pt x="356" y="2440"/>
                </a:lnTo>
                <a:lnTo>
                  <a:pt x="432" y="2452"/>
                </a:lnTo>
                <a:lnTo>
                  <a:pt x="436" y="2548"/>
                </a:lnTo>
                <a:lnTo>
                  <a:pt x="248" y="2544"/>
                </a:lnTo>
                <a:lnTo>
                  <a:pt x="256" y="2428"/>
                </a:lnTo>
                <a:lnTo>
                  <a:pt x="96" y="2428"/>
                </a:lnTo>
                <a:lnTo>
                  <a:pt x="104" y="2532"/>
                </a:lnTo>
                <a:lnTo>
                  <a:pt x="8" y="2532"/>
                </a:lnTo>
                <a:lnTo>
                  <a:pt x="16" y="2632"/>
                </a:lnTo>
                <a:lnTo>
                  <a:pt x="180" y="2620"/>
                </a:lnTo>
                <a:lnTo>
                  <a:pt x="180" y="2720"/>
                </a:lnTo>
                <a:lnTo>
                  <a:pt x="528" y="2716"/>
                </a:lnTo>
                <a:lnTo>
                  <a:pt x="528" y="2452"/>
                </a:lnTo>
                <a:lnTo>
                  <a:pt x="600" y="2456"/>
                </a:lnTo>
                <a:lnTo>
                  <a:pt x="604" y="2256"/>
                </a:lnTo>
                <a:lnTo>
                  <a:pt x="528" y="2260"/>
                </a:lnTo>
                <a:lnTo>
                  <a:pt x="528" y="2164"/>
                </a:lnTo>
                <a:lnTo>
                  <a:pt x="432" y="2164"/>
                </a:lnTo>
                <a:lnTo>
                  <a:pt x="432" y="2068"/>
                </a:lnTo>
                <a:lnTo>
                  <a:pt x="528" y="2068"/>
                </a:lnTo>
                <a:lnTo>
                  <a:pt x="528" y="1972"/>
                </a:lnTo>
                <a:lnTo>
                  <a:pt x="624" y="1972"/>
                </a:lnTo>
                <a:lnTo>
                  <a:pt x="624" y="2068"/>
                </a:lnTo>
                <a:lnTo>
                  <a:pt x="768" y="2068"/>
                </a:lnTo>
                <a:lnTo>
                  <a:pt x="768" y="1876"/>
                </a:lnTo>
                <a:lnTo>
                  <a:pt x="684" y="1880"/>
                </a:lnTo>
                <a:lnTo>
                  <a:pt x="684" y="1776"/>
                </a:lnTo>
                <a:lnTo>
                  <a:pt x="912" y="1780"/>
                </a:lnTo>
                <a:lnTo>
                  <a:pt x="912" y="1396"/>
                </a:lnTo>
                <a:lnTo>
                  <a:pt x="672" y="1396"/>
                </a:lnTo>
                <a:lnTo>
                  <a:pt x="672" y="1300"/>
                </a:lnTo>
                <a:lnTo>
                  <a:pt x="576" y="1300"/>
                </a:lnTo>
                <a:lnTo>
                  <a:pt x="576" y="1252"/>
                </a:lnTo>
                <a:lnTo>
                  <a:pt x="480" y="1252"/>
                </a:lnTo>
                <a:lnTo>
                  <a:pt x="480" y="1108"/>
                </a:lnTo>
                <a:lnTo>
                  <a:pt x="432" y="1156"/>
                </a:lnTo>
                <a:lnTo>
                  <a:pt x="432" y="964"/>
                </a:lnTo>
                <a:lnTo>
                  <a:pt x="336" y="964"/>
                </a:lnTo>
                <a:lnTo>
                  <a:pt x="336" y="772"/>
                </a:lnTo>
                <a:lnTo>
                  <a:pt x="432" y="772"/>
                </a:lnTo>
                <a:lnTo>
                  <a:pt x="432" y="868"/>
                </a:lnTo>
                <a:lnTo>
                  <a:pt x="528" y="868"/>
                </a:lnTo>
                <a:lnTo>
                  <a:pt x="528" y="964"/>
                </a:lnTo>
                <a:lnTo>
                  <a:pt x="768" y="964"/>
                </a:lnTo>
                <a:lnTo>
                  <a:pt x="768" y="1060"/>
                </a:lnTo>
                <a:lnTo>
                  <a:pt x="612" y="1052"/>
                </a:lnTo>
                <a:lnTo>
                  <a:pt x="600" y="1152"/>
                </a:lnTo>
                <a:lnTo>
                  <a:pt x="684" y="1136"/>
                </a:lnTo>
                <a:lnTo>
                  <a:pt x="696" y="1220"/>
                </a:lnTo>
                <a:lnTo>
                  <a:pt x="704" y="1244"/>
                </a:lnTo>
                <a:lnTo>
                  <a:pt x="860" y="1240"/>
                </a:lnTo>
                <a:lnTo>
                  <a:pt x="860" y="1328"/>
                </a:lnTo>
                <a:lnTo>
                  <a:pt x="1192" y="1324"/>
                </a:lnTo>
                <a:lnTo>
                  <a:pt x="1196" y="1420"/>
                </a:lnTo>
                <a:lnTo>
                  <a:pt x="1020" y="1420"/>
                </a:lnTo>
                <a:lnTo>
                  <a:pt x="1024" y="1696"/>
                </a:lnTo>
                <a:lnTo>
                  <a:pt x="1104" y="1684"/>
                </a:lnTo>
                <a:lnTo>
                  <a:pt x="1104" y="1984"/>
                </a:lnTo>
                <a:lnTo>
                  <a:pt x="936" y="1988"/>
                </a:lnTo>
                <a:lnTo>
                  <a:pt x="936" y="1868"/>
                </a:lnTo>
                <a:lnTo>
                  <a:pt x="864" y="1876"/>
                </a:lnTo>
                <a:lnTo>
                  <a:pt x="864" y="2068"/>
                </a:lnTo>
                <a:lnTo>
                  <a:pt x="936" y="2064"/>
                </a:lnTo>
                <a:lnTo>
                  <a:pt x="940" y="2164"/>
                </a:lnTo>
                <a:lnTo>
                  <a:pt x="684" y="2164"/>
                </a:lnTo>
                <a:lnTo>
                  <a:pt x="684" y="2540"/>
                </a:lnTo>
                <a:lnTo>
                  <a:pt x="596" y="2524"/>
                </a:lnTo>
                <a:lnTo>
                  <a:pt x="600" y="2728"/>
                </a:lnTo>
                <a:lnTo>
                  <a:pt x="1100" y="2724"/>
                </a:lnTo>
                <a:lnTo>
                  <a:pt x="1104" y="2644"/>
                </a:lnTo>
                <a:lnTo>
                  <a:pt x="1296" y="2644"/>
                </a:lnTo>
                <a:lnTo>
                  <a:pt x="1296" y="2724"/>
                </a:lnTo>
                <a:lnTo>
                  <a:pt x="1444" y="2728"/>
                </a:lnTo>
                <a:lnTo>
                  <a:pt x="1440" y="2644"/>
                </a:lnTo>
                <a:lnTo>
                  <a:pt x="1680" y="2644"/>
                </a:lnTo>
                <a:lnTo>
                  <a:pt x="1680" y="2740"/>
                </a:lnTo>
                <a:lnTo>
                  <a:pt x="2276" y="2732"/>
                </a:lnTo>
                <a:lnTo>
                  <a:pt x="2276" y="2636"/>
                </a:lnTo>
                <a:lnTo>
                  <a:pt x="2352" y="2644"/>
                </a:lnTo>
                <a:lnTo>
                  <a:pt x="2352" y="2548"/>
                </a:lnTo>
                <a:lnTo>
                  <a:pt x="2208" y="2548"/>
                </a:lnTo>
                <a:lnTo>
                  <a:pt x="2188" y="2436"/>
                </a:lnTo>
                <a:lnTo>
                  <a:pt x="2280" y="2440"/>
                </a:lnTo>
                <a:lnTo>
                  <a:pt x="2284" y="2260"/>
                </a:lnTo>
                <a:lnTo>
                  <a:pt x="2112" y="2260"/>
                </a:lnTo>
                <a:lnTo>
                  <a:pt x="2108" y="2460"/>
                </a:lnTo>
                <a:lnTo>
                  <a:pt x="2016" y="2452"/>
                </a:lnTo>
                <a:lnTo>
                  <a:pt x="2016" y="2068"/>
                </a:lnTo>
                <a:lnTo>
                  <a:pt x="2112" y="2068"/>
                </a:lnTo>
                <a:lnTo>
                  <a:pt x="2112" y="2164"/>
                </a:lnTo>
                <a:lnTo>
                  <a:pt x="2288" y="2168"/>
                </a:lnTo>
                <a:lnTo>
                  <a:pt x="2284" y="1968"/>
                </a:lnTo>
                <a:lnTo>
                  <a:pt x="2352" y="1972"/>
                </a:lnTo>
                <a:lnTo>
                  <a:pt x="2352" y="1876"/>
                </a:lnTo>
                <a:lnTo>
                  <a:pt x="2276" y="1880"/>
                </a:lnTo>
                <a:lnTo>
                  <a:pt x="2276" y="1780"/>
                </a:lnTo>
                <a:lnTo>
                  <a:pt x="2188" y="1784"/>
                </a:lnTo>
                <a:lnTo>
                  <a:pt x="2192" y="1404"/>
                </a:lnTo>
                <a:lnTo>
                  <a:pt x="2116" y="1400"/>
                </a:lnTo>
                <a:lnTo>
                  <a:pt x="2116" y="1500"/>
                </a:lnTo>
                <a:lnTo>
                  <a:pt x="1936" y="1504"/>
                </a:lnTo>
                <a:lnTo>
                  <a:pt x="1932" y="1408"/>
                </a:lnTo>
                <a:lnTo>
                  <a:pt x="2036" y="1408"/>
                </a:lnTo>
                <a:lnTo>
                  <a:pt x="2028" y="1224"/>
                </a:lnTo>
                <a:lnTo>
                  <a:pt x="2124" y="1236"/>
                </a:lnTo>
                <a:lnTo>
                  <a:pt x="2116" y="1132"/>
                </a:lnTo>
                <a:lnTo>
                  <a:pt x="2028" y="1136"/>
                </a:lnTo>
                <a:lnTo>
                  <a:pt x="2028" y="956"/>
                </a:lnTo>
                <a:lnTo>
                  <a:pt x="2196" y="960"/>
                </a:lnTo>
                <a:lnTo>
                  <a:pt x="2200" y="764"/>
                </a:lnTo>
                <a:lnTo>
                  <a:pt x="1948" y="760"/>
                </a:lnTo>
                <a:lnTo>
                  <a:pt x="1944" y="864"/>
                </a:lnTo>
                <a:lnTo>
                  <a:pt x="1776" y="868"/>
                </a:lnTo>
                <a:lnTo>
                  <a:pt x="1776" y="772"/>
                </a:lnTo>
                <a:lnTo>
                  <a:pt x="1536" y="772"/>
                </a:lnTo>
                <a:lnTo>
                  <a:pt x="1536" y="676"/>
                </a:lnTo>
                <a:lnTo>
                  <a:pt x="1952" y="680"/>
                </a:lnTo>
                <a:lnTo>
                  <a:pt x="1952" y="572"/>
                </a:lnTo>
                <a:lnTo>
                  <a:pt x="1684" y="572"/>
                </a:lnTo>
                <a:lnTo>
                  <a:pt x="1680" y="292"/>
                </a:lnTo>
                <a:lnTo>
                  <a:pt x="1776" y="292"/>
                </a:lnTo>
                <a:lnTo>
                  <a:pt x="1776" y="124"/>
                </a:lnTo>
                <a:lnTo>
                  <a:pt x="1868" y="120"/>
                </a:lnTo>
                <a:lnTo>
                  <a:pt x="1868" y="16"/>
                </a:lnTo>
                <a:lnTo>
                  <a:pt x="2024" y="8"/>
                </a:lnTo>
                <a:lnTo>
                  <a:pt x="2040" y="220"/>
                </a:lnTo>
                <a:lnTo>
                  <a:pt x="1940" y="212"/>
                </a:lnTo>
                <a:lnTo>
                  <a:pt x="1940" y="388"/>
                </a:lnTo>
                <a:lnTo>
                  <a:pt x="2032" y="392"/>
                </a:lnTo>
                <a:lnTo>
                  <a:pt x="2036" y="580"/>
                </a:lnTo>
                <a:lnTo>
                  <a:pt x="2112" y="580"/>
                </a:lnTo>
                <a:lnTo>
                  <a:pt x="2112" y="484"/>
                </a:lnTo>
                <a:lnTo>
                  <a:pt x="2208" y="484"/>
                </a:lnTo>
                <a:lnTo>
                  <a:pt x="2200" y="384"/>
                </a:lnTo>
                <a:lnTo>
                  <a:pt x="2112" y="388"/>
                </a:lnTo>
                <a:lnTo>
                  <a:pt x="2112" y="4"/>
                </a:lnTo>
                <a:lnTo>
                  <a:pt x="2196" y="0"/>
                </a:lnTo>
                <a:lnTo>
                  <a:pt x="2192" y="116"/>
                </a:lnTo>
                <a:lnTo>
                  <a:pt x="2284" y="124"/>
                </a:lnTo>
                <a:lnTo>
                  <a:pt x="2280" y="0"/>
                </a:lnTo>
                <a:lnTo>
                  <a:pt x="2620" y="4"/>
                </a:lnTo>
                <a:lnTo>
                  <a:pt x="2616" y="124"/>
                </a:lnTo>
                <a:lnTo>
                  <a:pt x="2696" y="124"/>
                </a:lnTo>
                <a:cubicBezTo>
                  <a:pt x="2725" y="111"/>
                  <a:pt x="2684" y="44"/>
                  <a:pt x="2720" y="28"/>
                </a:cubicBezTo>
                <a:cubicBezTo>
                  <a:pt x="2756" y="12"/>
                  <a:pt x="2828" y="30"/>
                  <a:pt x="2910" y="28"/>
                </a:cubicBezTo>
                <a:lnTo>
                  <a:pt x="3212" y="16"/>
                </a:lnTo>
                <a:lnTo>
                  <a:pt x="3204" y="116"/>
                </a:lnTo>
                <a:lnTo>
                  <a:pt x="3292" y="112"/>
                </a:lnTo>
                <a:lnTo>
                  <a:pt x="3296" y="296"/>
                </a:lnTo>
                <a:lnTo>
                  <a:pt x="3024" y="292"/>
                </a:lnTo>
                <a:lnTo>
                  <a:pt x="3036" y="196"/>
                </a:lnTo>
                <a:lnTo>
                  <a:pt x="2948" y="196"/>
                </a:lnTo>
                <a:lnTo>
                  <a:pt x="2952" y="304"/>
                </a:lnTo>
                <a:lnTo>
                  <a:pt x="2784" y="292"/>
                </a:lnTo>
                <a:lnTo>
                  <a:pt x="2784" y="196"/>
                </a:lnTo>
                <a:lnTo>
                  <a:pt x="2688" y="196"/>
                </a:lnTo>
                <a:lnTo>
                  <a:pt x="2688" y="292"/>
                </a:lnTo>
                <a:lnTo>
                  <a:pt x="2528" y="304"/>
                </a:lnTo>
                <a:lnTo>
                  <a:pt x="2532" y="108"/>
                </a:lnTo>
                <a:lnTo>
                  <a:pt x="2436" y="108"/>
                </a:lnTo>
                <a:lnTo>
                  <a:pt x="2448" y="312"/>
                </a:lnTo>
                <a:lnTo>
                  <a:pt x="2368" y="316"/>
                </a:lnTo>
                <a:lnTo>
                  <a:pt x="2352" y="196"/>
                </a:lnTo>
                <a:lnTo>
                  <a:pt x="2188" y="204"/>
                </a:lnTo>
                <a:lnTo>
                  <a:pt x="2188" y="296"/>
                </a:lnTo>
                <a:lnTo>
                  <a:pt x="2280" y="296"/>
                </a:lnTo>
                <a:lnTo>
                  <a:pt x="2292" y="584"/>
                </a:lnTo>
                <a:lnTo>
                  <a:pt x="2352" y="580"/>
                </a:lnTo>
                <a:lnTo>
                  <a:pt x="2352" y="676"/>
                </a:lnTo>
                <a:lnTo>
                  <a:pt x="2544" y="676"/>
                </a:lnTo>
                <a:lnTo>
                  <a:pt x="2544" y="772"/>
                </a:lnTo>
                <a:lnTo>
                  <a:pt x="2692" y="780"/>
                </a:lnTo>
                <a:lnTo>
                  <a:pt x="2692" y="664"/>
                </a:lnTo>
                <a:lnTo>
                  <a:pt x="2616" y="676"/>
                </a:lnTo>
                <a:lnTo>
                  <a:pt x="2616" y="500"/>
                </a:lnTo>
                <a:lnTo>
                  <a:pt x="2696" y="492"/>
                </a:lnTo>
                <a:lnTo>
                  <a:pt x="2688" y="388"/>
                </a:lnTo>
                <a:lnTo>
                  <a:pt x="2784" y="388"/>
                </a:lnTo>
                <a:lnTo>
                  <a:pt x="2784" y="772"/>
                </a:lnTo>
                <a:lnTo>
                  <a:pt x="2880" y="772"/>
                </a:lnTo>
                <a:lnTo>
                  <a:pt x="2880" y="868"/>
                </a:lnTo>
                <a:lnTo>
                  <a:pt x="2592" y="868"/>
                </a:lnTo>
                <a:lnTo>
                  <a:pt x="2592" y="964"/>
                </a:lnTo>
                <a:lnTo>
                  <a:pt x="2688" y="964"/>
                </a:lnTo>
                <a:lnTo>
                  <a:pt x="2696" y="1136"/>
                </a:lnTo>
                <a:lnTo>
                  <a:pt x="2876" y="1140"/>
                </a:lnTo>
                <a:lnTo>
                  <a:pt x="2880" y="964"/>
                </a:lnTo>
                <a:lnTo>
                  <a:pt x="3024" y="964"/>
                </a:lnTo>
                <a:lnTo>
                  <a:pt x="3024" y="1108"/>
                </a:lnTo>
                <a:lnTo>
                  <a:pt x="3216" y="1108"/>
                </a:lnTo>
                <a:lnTo>
                  <a:pt x="3208" y="1044"/>
                </a:lnTo>
                <a:lnTo>
                  <a:pt x="3304" y="1040"/>
                </a:lnTo>
                <a:lnTo>
                  <a:pt x="3296" y="1224"/>
                </a:lnTo>
                <a:lnTo>
                  <a:pt x="3200" y="1224"/>
                </a:lnTo>
                <a:lnTo>
                  <a:pt x="3200" y="1324"/>
                </a:lnTo>
                <a:lnTo>
                  <a:pt x="3300" y="1320"/>
                </a:lnTo>
                <a:lnTo>
                  <a:pt x="3292" y="1412"/>
                </a:lnTo>
                <a:lnTo>
                  <a:pt x="3292" y="1412"/>
                </a:lnTo>
                <a:lnTo>
                  <a:pt x="3208" y="1424"/>
                </a:lnTo>
                <a:lnTo>
                  <a:pt x="3204" y="1516"/>
                </a:lnTo>
                <a:lnTo>
                  <a:pt x="3032" y="1516"/>
                </a:lnTo>
                <a:lnTo>
                  <a:pt x="3028" y="1608"/>
                </a:lnTo>
                <a:lnTo>
                  <a:pt x="3116" y="1600"/>
                </a:lnTo>
                <a:lnTo>
                  <a:pt x="3120" y="1684"/>
                </a:lnTo>
                <a:lnTo>
                  <a:pt x="3120" y="1688"/>
                </a:lnTo>
                <a:lnTo>
                  <a:pt x="3216" y="1684"/>
                </a:lnTo>
                <a:lnTo>
                  <a:pt x="3208" y="1800"/>
                </a:lnTo>
                <a:lnTo>
                  <a:pt x="2956" y="1788"/>
                </a:lnTo>
                <a:lnTo>
                  <a:pt x="2964" y="2160"/>
                </a:lnTo>
                <a:lnTo>
                  <a:pt x="3120" y="2164"/>
                </a:lnTo>
                <a:lnTo>
                  <a:pt x="3120" y="2068"/>
                </a:lnTo>
                <a:lnTo>
                  <a:pt x="3024" y="2068"/>
                </a:lnTo>
                <a:lnTo>
                  <a:pt x="3024" y="1972"/>
                </a:lnTo>
                <a:lnTo>
                  <a:pt x="3168" y="1972"/>
                </a:lnTo>
                <a:lnTo>
                  <a:pt x="3168" y="1876"/>
                </a:lnTo>
                <a:lnTo>
                  <a:pt x="3312" y="1876"/>
                </a:lnTo>
                <a:lnTo>
                  <a:pt x="3312" y="2548"/>
                </a:lnTo>
                <a:lnTo>
                  <a:pt x="3208" y="2540"/>
                </a:lnTo>
                <a:lnTo>
                  <a:pt x="3216" y="2644"/>
                </a:lnTo>
                <a:lnTo>
                  <a:pt x="3120" y="2644"/>
                </a:lnTo>
                <a:lnTo>
                  <a:pt x="3112" y="2720"/>
                </a:lnTo>
                <a:lnTo>
                  <a:pt x="3300" y="270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42120" y="5105520"/>
            <a:ext cx="1041120" cy="3454200"/>
          </a:xfrm>
          <a:custGeom>
            <a:avLst/>
            <a:gdLst/>
            <a:ahLst/>
            <a:rect l="l" t="t" r="r" b="b"/>
            <a:pathLst>
              <a:path w="656" h="2176">
                <a:moveTo>
                  <a:pt x="652" y="0"/>
                </a:moveTo>
                <a:lnTo>
                  <a:pt x="652" y="144"/>
                </a:lnTo>
                <a:lnTo>
                  <a:pt x="508" y="144"/>
                </a:lnTo>
                <a:lnTo>
                  <a:pt x="508" y="240"/>
                </a:lnTo>
                <a:lnTo>
                  <a:pt x="556" y="240"/>
                </a:lnTo>
                <a:lnTo>
                  <a:pt x="556" y="336"/>
                </a:lnTo>
                <a:lnTo>
                  <a:pt x="508" y="336"/>
                </a:lnTo>
                <a:lnTo>
                  <a:pt x="508" y="432"/>
                </a:lnTo>
                <a:lnTo>
                  <a:pt x="652" y="432"/>
                </a:lnTo>
                <a:lnTo>
                  <a:pt x="652" y="576"/>
                </a:lnTo>
                <a:lnTo>
                  <a:pt x="508" y="576"/>
                </a:lnTo>
                <a:lnTo>
                  <a:pt x="508" y="672"/>
                </a:lnTo>
                <a:lnTo>
                  <a:pt x="556" y="672"/>
                </a:lnTo>
                <a:lnTo>
                  <a:pt x="556" y="960"/>
                </a:lnTo>
                <a:lnTo>
                  <a:pt x="652" y="960"/>
                </a:lnTo>
                <a:lnTo>
                  <a:pt x="652" y="1056"/>
                </a:lnTo>
                <a:lnTo>
                  <a:pt x="508" y="1056"/>
                </a:lnTo>
                <a:lnTo>
                  <a:pt x="508" y="864"/>
                </a:lnTo>
                <a:lnTo>
                  <a:pt x="316" y="864"/>
                </a:lnTo>
                <a:lnTo>
                  <a:pt x="316" y="1056"/>
                </a:lnTo>
                <a:lnTo>
                  <a:pt x="412" y="1056"/>
                </a:lnTo>
                <a:lnTo>
                  <a:pt x="412" y="1152"/>
                </a:lnTo>
                <a:lnTo>
                  <a:pt x="316" y="1152"/>
                </a:lnTo>
                <a:lnTo>
                  <a:pt x="316" y="1248"/>
                </a:lnTo>
                <a:lnTo>
                  <a:pt x="508" y="1248"/>
                </a:lnTo>
                <a:lnTo>
                  <a:pt x="508" y="1344"/>
                </a:lnTo>
                <a:lnTo>
                  <a:pt x="252" y="1340"/>
                </a:lnTo>
                <a:lnTo>
                  <a:pt x="252" y="1452"/>
                </a:lnTo>
                <a:lnTo>
                  <a:pt x="172" y="1440"/>
                </a:lnTo>
                <a:lnTo>
                  <a:pt x="172" y="1344"/>
                </a:lnTo>
                <a:lnTo>
                  <a:pt x="0" y="1344"/>
                </a:lnTo>
                <a:lnTo>
                  <a:pt x="4" y="1540"/>
                </a:lnTo>
                <a:lnTo>
                  <a:pt x="96" y="1540"/>
                </a:lnTo>
                <a:lnTo>
                  <a:pt x="96" y="1636"/>
                </a:lnTo>
                <a:lnTo>
                  <a:pt x="172" y="1632"/>
                </a:lnTo>
                <a:lnTo>
                  <a:pt x="172" y="1536"/>
                </a:lnTo>
                <a:lnTo>
                  <a:pt x="412" y="1536"/>
                </a:lnTo>
                <a:lnTo>
                  <a:pt x="412" y="1440"/>
                </a:lnTo>
                <a:lnTo>
                  <a:pt x="580" y="1448"/>
                </a:lnTo>
                <a:lnTo>
                  <a:pt x="592" y="1344"/>
                </a:lnTo>
                <a:lnTo>
                  <a:pt x="652" y="1344"/>
                </a:lnTo>
                <a:lnTo>
                  <a:pt x="656" y="1924"/>
                </a:lnTo>
                <a:lnTo>
                  <a:pt x="412" y="1920"/>
                </a:lnTo>
                <a:lnTo>
                  <a:pt x="412" y="1996"/>
                </a:lnTo>
                <a:lnTo>
                  <a:pt x="508" y="1992"/>
                </a:lnTo>
                <a:cubicBezTo>
                  <a:pt x="504" y="2016"/>
                  <a:pt x="505" y="2138"/>
                  <a:pt x="504" y="21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65120" y="7543800"/>
            <a:ext cx="4883400" cy="1981080"/>
          </a:xfrm>
          <a:custGeom>
            <a:avLst/>
            <a:gdLst/>
            <a:ahLst/>
            <a:rect l="l" t="t" r="r" b="b"/>
            <a:pathLst>
              <a:path w="3076" h="1248">
                <a:moveTo>
                  <a:pt x="3076" y="624"/>
                </a:moveTo>
                <a:lnTo>
                  <a:pt x="3076" y="672"/>
                </a:lnTo>
                <a:lnTo>
                  <a:pt x="2892" y="676"/>
                </a:lnTo>
                <a:lnTo>
                  <a:pt x="2900" y="564"/>
                </a:lnTo>
                <a:lnTo>
                  <a:pt x="2816" y="576"/>
                </a:lnTo>
                <a:lnTo>
                  <a:pt x="2816" y="472"/>
                </a:lnTo>
                <a:lnTo>
                  <a:pt x="2740" y="480"/>
                </a:lnTo>
                <a:lnTo>
                  <a:pt x="2740" y="192"/>
                </a:lnTo>
                <a:lnTo>
                  <a:pt x="2576" y="200"/>
                </a:lnTo>
                <a:lnTo>
                  <a:pt x="2580" y="100"/>
                </a:lnTo>
                <a:lnTo>
                  <a:pt x="2500" y="96"/>
                </a:lnTo>
                <a:lnTo>
                  <a:pt x="2500" y="0"/>
                </a:lnTo>
                <a:lnTo>
                  <a:pt x="2404" y="0"/>
                </a:lnTo>
                <a:lnTo>
                  <a:pt x="2404" y="288"/>
                </a:lnTo>
                <a:lnTo>
                  <a:pt x="2500" y="288"/>
                </a:lnTo>
                <a:lnTo>
                  <a:pt x="2500" y="480"/>
                </a:lnTo>
                <a:lnTo>
                  <a:pt x="2644" y="480"/>
                </a:lnTo>
                <a:lnTo>
                  <a:pt x="2644" y="576"/>
                </a:lnTo>
                <a:lnTo>
                  <a:pt x="2740" y="576"/>
                </a:lnTo>
                <a:lnTo>
                  <a:pt x="2740" y="672"/>
                </a:lnTo>
                <a:lnTo>
                  <a:pt x="2644" y="672"/>
                </a:lnTo>
                <a:lnTo>
                  <a:pt x="2644" y="864"/>
                </a:lnTo>
                <a:lnTo>
                  <a:pt x="2572" y="856"/>
                </a:lnTo>
                <a:lnTo>
                  <a:pt x="2576" y="668"/>
                </a:lnTo>
                <a:lnTo>
                  <a:pt x="2404" y="672"/>
                </a:lnTo>
                <a:lnTo>
                  <a:pt x="2412" y="540"/>
                </a:lnTo>
                <a:lnTo>
                  <a:pt x="2316" y="544"/>
                </a:lnTo>
                <a:lnTo>
                  <a:pt x="2320" y="768"/>
                </a:lnTo>
                <a:lnTo>
                  <a:pt x="2500" y="768"/>
                </a:lnTo>
                <a:lnTo>
                  <a:pt x="2500" y="1040"/>
                </a:lnTo>
                <a:lnTo>
                  <a:pt x="2408" y="1032"/>
                </a:lnTo>
                <a:lnTo>
                  <a:pt x="2404" y="1056"/>
                </a:lnTo>
                <a:lnTo>
                  <a:pt x="2404" y="1152"/>
                </a:lnTo>
                <a:lnTo>
                  <a:pt x="2548" y="1152"/>
                </a:lnTo>
                <a:lnTo>
                  <a:pt x="2548" y="1236"/>
                </a:lnTo>
                <a:lnTo>
                  <a:pt x="2064" y="1240"/>
                </a:lnTo>
                <a:lnTo>
                  <a:pt x="2068" y="1132"/>
                </a:lnTo>
                <a:lnTo>
                  <a:pt x="1996" y="1136"/>
                </a:lnTo>
                <a:lnTo>
                  <a:pt x="2000" y="1036"/>
                </a:lnTo>
                <a:lnTo>
                  <a:pt x="1924" y="1024"/>
                </a:lnTo>
                <a:lnTo>
                  <a:pt x="1924" y="1248"/>
                </a:lnTo>
                <a:lnTo>
                  <a:pt x="1828" y="1248"/>
                </a:lnTo>
                <a:lnTo>
                  <a:pt x="1820" y="1124"/>
                </a:lnTo>
                <a:lnTo>
                  <a:pt x="1736" y="1124"/>
                </a:lnTo>
                <a:lnTo>
                  <a:pt x="1732" y="1032"/>
                </a:lnTo>
                <a:lnTo>
                  <a:pt x="1668" y="1024"/>
                </a:lnTo>
                <a:lnTo>
                  <a:pt x="1664" y="1148"/>
                </a:lnTo>
                <a:lnTo>
                  <a:pt x="1588" y="1152"/>
                </a:lnTo>
                <a:lnTo>
                  <a:pt x="1584" y="936"/>
                </a:lnTo>
                <a:lnTo>
                  <a:pt x="1676" y="936"/>
                </a:lnTo>
                <a:lnTo>
                  <a:pt x="1676" y="748"/>
                </a:lnTo>
                <a:lnTo>
                  <a:pt x="1588" y="748"/>
                </a:lnTo>
                <a:lnTo>
                  <a:pt x="1588" y="864"/>
                </a:lnTo>
                <a:lnTo>
                  <a:pt x="1492" y="864"/>
                </a:lnTo>
                <a:lnTo>
                  <a:pt x="1496" y="944"/>
                </a:lnTo>
                <a:lnTo>
                  <a:pt x="1432" y="948"/>
                </a:lnTo>
                <a:lnTo>
                  <a:pt x="1424" y="760"/>
                </a:lnTo>
                <a:lnTo>
                  <a:pt x="1348" y="768"/>
                </a:lnTo>
                <a:lnTo>
                  <a:pt x="1348" y="576"/>
                </a:lnTo>
                <a:lnTo>
                  <a:pt x="1396" y="576"/>
                </a:lnTo>
                <a:lnTo>
                  <a:pt x="1396" y="480"/>
                </a:lnTo>
                <a:lnTo>
                  <a:pt x="1748" y="476"/>
                </a:lnTo>
                <a:lnTo>
                  <a:pt x="1744" y="580"/>
                </a:lnTo>
                <a:lnTo>
                  <a:pt x="1840" y="576"/>
                </a:lnTo>
                <a:lnTo>
                  <a:pt x="1828" y="360"/>
                </a:lnTo>
                <a:lnTo>
                  <a:pt x="1244" y="372"/>
                </a:lnTo>
                <a:lnTo>
                  <a:pt x="1252" y="192"/>
                </a:lnTo>
                <a:lnTo>
                  <a:pt x="1168" y="184"/>
                </a:lnTo>
                <a:lnTo>
                  <a:pt x="1180" y="80"/>
                </a:lnTo>
                <a:lnTo>
                  <a:pt x="1084" y="76"/>
                </a:lnTo>
                <a:lnTo>
                  <a:pt x="1084" y="196"/>
                </a:lnTo>
                <a:lnTo>
                  <a:pt x="1012" y="192"/>
                </a:lnTo>
                <a:lnTo>
                  <a:pt x="1012" y="288"/>
                </a:lnTo>
                <a:lnTo>
                  <a:pt x="1156" y="288"/>
                </a:lnTo>
                <a:lnTo>
                  <a:pt x="1156" y="384"/>
                </a:lnTo>
                <a:lnTo>
                  <a:pt x="1012" y="384"/>
                </a:lnTo>
                <a:lnTo>
                  <a:pt x="1012" y="576"/>
                </a:lnTo>
                <a:lnTo>
                  <a:pt x="1084" y="568"/>
                </a:lnTo>
                <a:lnTo>
                  <a:pt x="1080" y="668"/>
                </a:lnTo>
                <a:lnTo>
                  <a:pt x="1156" y="672"/>
                </a:lnTo>
                <a:lnTo>
                  <a:pt x="1156" y="576"/>
                </a:lnTo>
                <a:lnTo>
                  <a:pt x="1252" y="576"/>
                </a:lnTo>
                <a:lnTo>
                  <a:pt x="1252" y="864"/>
                </a:lnTo>
                <a:lnTo>
                  <a:pt x="1156" y="864"/>
                </a:lnTo>
                <a:lnTo>
                  <a:pt x="1156" y="768"/>
                </a:lnTo>
                <a:lnTo>
                  <a:pt x="1012" y="768"/>
                </a:lnTo>
                <a:lnTo>
                  <a:pt x="1012" y="864"/>
                </a:lnTo>
                <a:lnTo>
                  <a:pt x="1088" y="860"/>
                </a:lnTo>
                <a:lnTo>
                  <a:pt x="1088" y="960"/>
                </a:lnTo>
                <a:lnTo>
                  <a:pt x="1000" y="944"/>
                </a:lnTo>
                <a:lnTo>
                  <a:pt x="1004" y="1040"/>
                </a:lnTo>
                <a:lnTo>
                  <a:pt x="1160" y="1032"/>
                </a:lnTo>
                <a:lnTo>
                  <a:pt x="1164" y="936"/>
                </a:lnTo>
                <a:lnTo>
                  <a:pt x="1340" y="928"/>
                </a:lnTo>
                <a:lnTo>
                  <a:pt x="1344" y="1224"/>
                </a:lnTo>
                <a:lnTo>
                  <a:pt x="1100" y="1224"/>
                </a:lnTo>
                <a:lnTo>
                  <a:pt x="1096" y="1132"/>
                </a:lnTo>
                <a:lnTo>
                  <a:pt x="924" y="1136"/>
                </a:lnTo>
                <a:lnTo>
                  <a:pt x="916" y="1248"/>
                </a:lnTo>
                <a:lnTo>
                  <a:pt x="584" y="1236"/>
                </a:lnTo>
                <a:lnTo>
                  <a:pt x="592" y="1148"/>
                </a:lnTo>
                <a:lnTo>
                  <a:pt x="836" y="1148"/>
                </a:lnTo>
                <a:lnTo>
                  <a:pt x="836" y="1016"/>
                </a:lnTo>
                <a:lnTo>
                  <a:pt x="920" y="1028"/>
                </a:lnTo>
                <a:lnTo>
                  <a:pt x="924" y="932"/>
                </a:lnTo>
                <a:lnTo>
                  <a:pt x="840" y="936"/>
                </a:lnTo>
                <a:lnTo>
                  <a:pt x="844" y="836"/>
                </a:lnTo>
                <a:lnTo>
                  <a:pt x="596" y="844"/>
                </a:lnTo>
                <a:lnTo>
                  <a:pt x="592" y="972"/>
                </a:lnTo>
                <a:lnTo>
                  <a:pt x="500" y="956"/>
                </a:lnTo>
                <a:lnTo>
                  <a:pt x="508" y="832"/>
                </a:lnTo>
                <a:lnTo>
                  <a:pt x="424" y="832"/>
                </a:lnTo>
                <a:lnTo>
                  <a:pt x="432" y="956"/>
                </a:lnTo>
                <a:lnTo>
                  <a:pt x="264" y="936"/>
                </a:lnTo>
                <a:lnTo>
                  <a:pt x="264" y="1048"/>
                </a:lnTo>
                <a:lnTo>
                  <a:pt x="0" y="1032"/>
                </a:lnTo>
                <a:lnTo>
                  <a:pt x="4" y="120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0" y="1752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mittel_1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529596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40" y="66294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mittel_3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5371920" cy="4486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378080" y="304920"/>
            <a:ext cx="5099040" cy="4387680"/>
          </a:xfrm>
          <a:custGeom>
            <a:avLst/>
            <a:gdLst/>
            <a:ahLst/>
            <a:rect l="l" t="t" r="r" b="b"/>
            <a:pathLst>
              <a:path w="3212" h="2764">
                <a:moveTo>
                  <a:pt x="3212" y="0"/>
                </a:moveTo>
                <a:lnTo>
                  <a:pt x="3068" y="0"/>
                </a:lnTo>
                <a:lnTo>
                  <a:pt x="3072" y="124"/>
                </a:lnTo>
                <a:lnTo>
                  <a:pt x="2972" y="128"/>
                </a:lnTo>
                <a:lnTo>
                  <a:pt x="2972" y="0"/>
                </a:lnTo>
                <a:lnTo>
                  <a:pt x="2316" y="4"/>
                </a:lnTo>
                <a:lnTo>
                  <a:pt x="2320" y="220"/>
                </a:lnTo>
                <a:lnTo>
                  <a:pt x="2400" y="224"/>
                </a:lnTo>
                <a:lnTo>
                  <a:pt x="2396" y="144"/>
                </a:lnTo>
                <a:lnTo>
                  <a:pt x="2492" y="144"/>
                </a:lnTo>
                <a:lnTo>
                  <a:pt x="2488" y="216"/>
                </a:lnTo>
                <a:lnTo>
                  <a:pt x="2492" y="220"/>
                </a:lnTo>
                <a:lnTo>
                  <a:pt x="2584" y="212"/>
                </a:lnTo>
                <a:lnTo>
                  <a:pt x="2568" y="328"/>
                </a:lnTo>
                <a:lnTo>
                  <a:pt x="2476" y="300"/>
                </a:lnTo>
                <a:lnTo>
                  <a:pt x="2480" y="404"/>
                </a:lnTo>
                <a:lnTo>
                  <a:pt x="2580" y="396"/>
                </a:lnTo>
                <a:lnTo>
                  <a:pt x="2568" y="504"/>
                </a:lnTo>
                <a:lnTo>
                  <a:pt x="2488" y="488"/>
                </a:lnTo>
                <a:lnTo>
                  <a:pt x="2484" y="588"/>
                </a:lnTo>
                <a:lnTo>
                  <a:pt x="2396" y="588"/>
                </a:lnTo>
                <a:lnTo>
                  <a:pt x="2396" y="672"/>
                </a:lnTo>
                <a:lnTo>
                  <a:pt x="2156" y="672"/>
                </a:lnTo>
                <a:lnTo>
                  <a:pt x="2156" y="960"/>
                </a:lnTo>
                <a:lnTo>
                  <a:pt x="2248" y="960"/>
                </a:lnTo>
                <a:lnTo>
                  <a:pt x="2236" y="772"/>
                </a:lnTo>
                <a:lnTo>
                  <a:pt x="2316" y="768"/>
                </a:lnTo>
                <a:lnTo>
                  <a:pt x="2324" y="1064"/>
                </a:lnTo>
                <a:lnTo>
                  <a:pt x="2232" y="1064"/>
                </a:lnTo>
                <a:lnTo>
                  <a:pt x="2240" y="1148"/>
                </a:lnTo>
                <a:lnTo>
                  <a:pt x="2300" y="1152"/>
                </a:lnTo>
                <a:lnTo>
                  <a:pt x="2300" y="1248"/>
                </a:lnTo>
                <a:lnTo>
                  <a:pt x="2252" y="1248"/>
                </a:lnTo>
                <a:lnTo>
                  <a:pt x="2252" y="1344"/>
                </a:lnTo>
                <a:lnTo>
                  <a:pt x="2156" y="1344"/>
                </a:lnTo>
                <a:lnTo>
                  <a:pt x="2156" y="1440"/>
                </a:lnTo>
                <a:lnTo>
                  <a:pt x="2060" y="1440"/>
                </a:lnTo>
                <a:lnTo>
                  <a:pt x="2060" y="1536"/>
                </a:lnTo>
                <a:lnTo>
                  <a:pt x="2252" y="1536"/>
                </a:lnTo>
                <a:lnTo>
                  <a:pt x="2252" y="1440"/>
                </a:lnTo>
                <a:lnTo>
                  <a:pt x="2332" y="1448"/>
                </a:lnTo>
                <a:lnTo>
                  <a:pt x="2328" y="1356"/>
                </a:lnTo>
                <a:lnTo>
                  <a:pt x="2396" y="1344"/>
                </a:lnTo>
                <a:lnTo>
                  <a:pt x="2396" y="864"/>
                </a:lnTo>
                <a:lnTo>
                  <a:pt x="2492" y="864"/>
                </a:lnTo>
                <a:lnTo>
                  <a:pt x="2492" y="1056"/>
                </a:lnTo>
                <a:lnTo>
                  <a:pt x="2636" y="1056"/>
                </a:lnTo>
                <a:lnTo>
                  <a:pt x="2636" y="1152"/>
                </a:lnTo>
                <a:lnTo>
                  <a:pt x="2732" y="1152"/>
                </a:lnTo>
                <a:lnTo>
                  <a:pt x="2732" y="1248"/>
                </a:lnTo>
                <a:lnTo>
                  <a:pt x="2636" y="1248"/>
                </a:lnTo>
                <a:lnTo>
                  <a:pt x="2636" y="1440"/>
                </a:lnTo>
                <a:lnTo>
                  <a:pt x="2568" y="1440"/>
                </a:lnTo>
                <a:lnTo>
                  <a:pt x="2568" y="1240"/>
                </a:lnTo>
                <a:lnTo>
                  <a:pt x="2492" y="1248"/>
                </a:lnTo>
                <a:lnTo>
                  <a:pt x="2492" y="1632"/>
                </a:lnTo>
                <a:lnTo>
                  <a:pt x="2252" y="1632"/>
                </a:lnTo>
                <a:lnTo>
                  <a:pt x="2252" y="1728"/>
                </a:lnTo>
                <a:lnTo>
                  <a:pt x="2636" y="1728"/>
                </a:lnTo>
                <a:lnTo>
                  <a:pt x="2636" y="1824"/>
                </a:lnTo>
                <a:lnTo>
                  <a:pt x="2396" y="1824"/>
                </a:lnTo>
                <a:lnTo>
                  <a:pt x="2392" y="1920"/>
                </a:lnTo>
                <a:lnTo>
                  <a:pt x="2588" y="1920"/>
                </a:lnTo>
                <a:lnTo>
                  <a:pt x="2588" y="2016"/>
                </a:lnTo>
                <a:lnTo>
                  <a:pt x="2492" y="2016"/>
                </a:lnTo>
                <a:lnTo>
                  <a:pt x="2492" y="2220"/>
                </a:lnTo>
                <a:lnTo>
                  <a:pt x="2400" y="2216"/>
                </a:lnTo>
                <a:lnTo>
                  <a:pt x="2400" y="2108"/>
                </a:lnTo>
                <a:lnTo>
                  <a:pt x="2324" y="2116"/>
                </a:lnTo>
                <a:lnTo>
                  <a:pt x="2324" y="2008"/>
                </a:lnTo>
                <a:lnTo>
                  <a:pt x="2236" y="2000"/>
                </a:lnTo>
                <a:lnTo>
                  <a:pt x="2236" y="1816"/>
                </a:lnTo>
                <a:lnTo>
                  <a:pt x="2152" y="1816"/>
                </a:lnTo>
                <a:lnTo>
                  <a:pt x="2148" y="1724"/>
                </a:lnTo>
                <a:lnTo>
                  <a:pt x="2068" y="1724"/>
                </a:lnTo>
                <a:lnTo>
                  <a:pt x="2064" y="1624"/>
                </a:lnTo>
                <a:lnTo>
                  <a:pt x="1984" y="1620"/>
                </a:lnTo>
                <a:lnTo>
                  <a:pt x="1992" y="1348"/>
                </a:lnTo>
                <a:lnTo>
                  <a:pt x="2064" y="1340"/>
                </a:lnTo>
                <a:lnTo>
                  <a:pt x="2064" y="1248"/>
                </a:lnTo>
                <a:lnTo>
                  <a:pt x="1984" y="1244"/>
                </a:lnTo>
                <a:lnTo>
                  <a:pt x="1988" y="1152"/>
                </a:lnTo>
                <a:lnTo>
                  <a:pt x="2064" y="1152"/>
                </a:lnTo>
                <a:lnTo>
                  <a:pt x="2064" y="1064"/>
                </a:lnTo>
                <a:lnTo>
                  <a:pt x="1908" y="1056"/>
                </a:lnTo>
                <a:lnTo>
                  <a:pt x="1908" y="780"/>
                </a:lnTo>
                <a:lnTo>
                  <a:pt x="2060" y="772"/>
                </a:lnTo>
                <a:lnTo>
                  <a:pt x="2068" y="392"/>
                </a:lnTo>
                <a:lnTo>
                  <a:pt x="1896" y="404"/>
                </a:lnTo>
                <a:lnTo>
                  <a:pt x="1900" y="496"/>
                </a:lnTo>
                <a:lnTo>
                  <a:pt x="1984" y="496"/>
                </a:lnTo>
                <a:lnTo>
                  <a:pt x="1988" y="580"/>
                </a:lnTo>
                <a:lnTo>
                  <a:pt x="1904" y="576"/>
                </a:lnTo>
                <a:lnTo>
                  <a:pt x="1908" y="680"/>
                </a:lnTo>
                <a:lnTo>
                  <a:pt x="1816" y="680"/>
                </a:lnTo>
                <a:lnTo>
                  <a:pt x="1820" y="588"/>
                </a:lnTo>
                <a:lnTo>
                  <a:pt x="1740" y="588"/>
                </a:lnTo>
                <a:lnTo>
                  <a:pt x="1740" y="308"/>
                </a:lnTo>
                <a:lnTo>
                  <a:pt x="1652" y="308"/>
                </a:lnTo>
                <a:lnTo>
                  <a:pt x="1652" y="204"/>
                </a:lnTo>
                <a:lnTo>
                  <a:pt x="1580" y="212"/>
                </a:lnTo>
                <a:lnTo>
                  <a:pt x="1584" y="404"/>
                </a:lnTo>
                <a:lnTo>
                  <a:pt x="1664" y="400"/>
                </a:lnTo>
                <a:lnTo>
                  <a:pt x="1660" y="688"/>
                </a:lnTo>
                <a:lnTo>
                  <a:pt x="1744" y="680"/>
                </a:lnTo>
                <a:lnTo>
                  <a:pt x="1744" y="876"/>
                </a:lnTo>
                <a:lnTo>
                  <a:pt x="1824" y="880"/>
                </a:lnTo>
                <a:lnTo>
                  <a:pt x="1824" y="960"/>
                </a:lnTo>
                <a:lnTo>
                  <a:pt x="1740" y="964"/>
                </a:lnTo>
                <a:lnTo>
                  <a:pt x="1736" y="1060"/>
                </a:lnTo>
                <a:lnTo>
                  <a:pt x="1816" y="1056"/>
                </a:lnTo>
                <a:lnTo>
                  <a:pt x="1824" y="1260"/>
                </a:lnTo>
                <a:lnTo>
                  <a:pt x="1896" y="1256"/>
                </a:lnTo>
                <a:lnTo>
                  <a:pt x="1900" y="1448"/>
                </a:lnTo>
                <a:lnTo>
                  <a:pt x="1748" y="1440"/>
                </a:lnTo>
                <a:lnTo>
                  <a:pt x="1748" y="1540"/>
                </a:lnTo>
                <a:lnTo>
                  <a:pt x="1896" y="1536"/>
                </a:lnTo>
                <a:lnTo>
                  <a:pt x="1904" y="2008"/>
                </a:lnTo>
                <a:lnTo>
                  <a:pt x="1664" y="2008"/>
                </a:lnTo>
                <a:lnTo>
                  <a:pt x="1660" y="1912"/>
                </a:lnTo>
                <a:lnTo>
                  <a:pt x="1572" y="1912"/>
                </a:lnTo>
                <a:lnTo>
                  <a:pt x="1572" y="1716"/>
                </a:lnTo>
                <a:lnTo>
                  <a:pt x="1652" y="1716"/>
                </a:lnTo>
                <a:lnTo>
                  <a:pt x="1652" y="1620"/>
                </a:lnTo>
                <a:lnTo>
                  <a:pt x="1496" y="1616"/>
                </a:lnTo>
                <a:lnTo>
                  <a:pt x="1492" y="1720"/>
                </a:lnTo>
                <a:lnTo>
                  <a:pt x="1332" y="1724"/>
                </a:lnTo>
                <a:lnTo>
                  <a:pt x="1336" y="1628"/>
                </a:lnTo>
                <a:lnTo>
                  <a:pt x="1404" y="1620"/>
                </a:lnTo>
                <a:lnTo>
                  <a:pt x="1404" y="1436"/>
                </a:lnTo>
                <a:lnTo>
                  <a:pt x="1252" y="1436"/>
                </a:lnTo>
                <a:lnTo>
                  <a:pt x="1248" y="1528"/>
                </a:lnTo>
                <a:lnTo>
                  <a:pt x="1084" y="1524"/>
                </a:lnTo>
                <a:lnTo>
                  <a:pt x="1084" y="1432"/>
                </a:lnTo>
                <a:lnTo>
                  <a:pt x="1156" y="1432"/>
                </a:lnTo>
                <a:lnTo>
                  <a:pt x="1160" y="1248"/>
                </a:lnTo>
                <a:lnTo>
                  <a:pt x="1000" y="1244"/>
                </a:lnTo>
                <a:lnTo>
                  <a:pt x="996" y="1156"/>
                </a:lnTo>
                <a:lnTo>
                  <a:pt x="756" y="1148"/>
                </a:lnTo>
                <a:lnTo>
                  <a:pt x="756" y="1052"/>
                </a:lnTo>
                <a:lnTo>
                  <a:pt x="824" y="1048"/>
                </a:lnTo>
                <a:lnTo>
                  <a:pt x="836" y="956"/>
                </a:lnTo>
                <a:lnTo>
                  <a:pt x="996" y="952"/>
                </a:lnTo>
                <a:lnTo>
                  <a:pt x="1004" y="1072"/>
                </a:lnTo>
                <a:lnTo>
                  <a:pt x="1164" y="1060"/>
                </a:lnTo>
                <a:lnTo>
                  <a:pt x="1164" y="956"/>
                </a:lnTo>
                <a:lnTo>
                  <a:pt x="1080" y="964"/>
                </a:lnTo>
                <a:lnTo>
                  <a:pt x="1080" y="772"/>
                </a:lnTo>
                <a:lnTo>
                  <a:pt x="1000" y="780"/>
                </a:lnTo>
                <a:lnTo>
                  <a:pt x="996" y="876"/>
                </a:lnTo>
                <a:lnTo>
                  <a:pt x="836" y="880"/>
                </a:lnTo>
                <a:lnTo>
                  <a:pt x="836" y="772"/>
                </a:lnTo>
                <a:lnTo>
                  <a:pt x="676" y="784"/>
                </a:lnTo>
                <a:lnTo>
                  <a:pt x="664" y="876"/>
                </a:lnTo>
                <a:lnTo>
                  <a:pt x="748" y="868"/>
                </a:lnTo>
                <a:lnTo>
                  <a:pt x="740" y="964"/>
                </a:lnTo>
                <a:lnTo>
                  <a:pt x="668" y="968"/>
                </a:lnTo>
                <a:lnTo>
                  <a:pt x="664" y="1140"/>
                </a:lnTo>
                <a:lnTo>
                  <a:pt x="588" y="1156"/>
                </a:lnTo>
                <a:lnTo>
                  <a:pt x="576" y="1256"/>
                </a:lnTo>
                <a:lnTo>
                  <a:pt x="508" y="1252"/>
                </a:lnTo>
                <a:lnTo>
                  <a:pt x="500" y="1352"/>
                </a:lnTo>
                <a:lnTo>
                  <a:pt x="576" y="1352"/>
                </a:lnTo>
                <a:lnTo>
                  <a:pt x="576" y="1528"/>
                </a:lnTo>
                <a:lnTo>
                  <a:pt x="492" y="1520"/>
                </a:lnTo>
                <a:lnTo>
                  <a:pt x="496" y="1628"/>
                </a:lnTo>
                <a:lnTo>
                  <a:pt x="736" y="1632"/>
                </a:lnTo>
                <a:lnTo>
                  <a:pt x="752" y="1532"/>
                </a:lnTo>
                <a:lnTo>
                  <a:pt x="820" y="1536"/>
                </a:lnTo>
                <a:lnTo>
                  <a:pt x="824" y="1440"/>
                </a:lnTo>
                <a:lnTo>
                  <a:pt x="916" y="1436"/>
                </a:lnTo>
                <a:lnTo>
                  <a:pt x="912" y="1616"/>
                </a:lnTo>
                <a:lnTo>
                  <a:pt x="828" y="1624"/>
                </a:lnTo>
                <a:lnTo>
                  <a:pt x="824" y="2004"/>
                </a:lnTo>
                <a:lnTo>
                  <a:pt x="512" y="2004"/>
                </a:lnTo>
                <a:lnTo>
                  <a:pt x="508" y="2096"/>
                </a:lnTo>
                <a:lnTo>
                  <a:pt x="588" y="2104"/>
                </a:lnTo>
                <a:lnTo>
                  <a:pt x="588" y="2204"/>
                </a:lnTo>
                <a:lnTo>
                  <a:pt x="336" y="2200"/>
                </a:lnTo>
                <a:lnTo>
                  <a:pt x="328" y="2292"/>
                </a:lnTo>
                <a:lnTo>
                  <a:pt x="656" y="2292"/>
                </a:lnTo>
                <a:lnTo>
                  <a:pt x="660" y="2192"/>
                </a:lnTo>
                <a:lnTo>
                  <a:pt x="752" y="2188"/>
                </a:lnTo>
                <a:lnTo>
                  <a:pt x="760" y="2096"/>
                </a:lnTo>
                <a:lnTo>
                  <a:pt x="836" y="2096"/>
                </a:lnTo>
                <a:lnTo>
                  <a:pt x="828" y="2192"/>
                </a:lnTo>
                <a:lnTo>
                  <a:pt x="912" y="2192"/>
                </a:lnTo>
                <a:lnTo>
                  <a:pt x="916" y="2004"/>
                </a:lnTo>
                <a:lnTo>
                  <a:pt x="992" y="1992"/>
                </a:lnTo>
                <a:lnTo>
                  <a:pt x="992" y="2104"/>
                </a:lnTo>
                <a:lnTo>
                  <a:pt x="1076" y="2096"/>
                </a:lnTo>
                <a:lnTo>
                  <a:pt x="1076" y="1912"/>
                </a:lnTo>
                <a:lnTo>
                  <a:pt x="1156" y="1892"/>
                </a:lnTo>
                <a:lnTo>
                  <a:pt x="1164" y="1812"/>
                </a:lnTo>
                <a:lnTo>
                  <a:pt x="1252" y="1804"/>
                </a:lnTo>
                <a:lnTo>
                  <a:pt x="1248" y="1900"/>
                </a:lnTo>
                <a:lnTo>
                  <a:pt x="1324" y="1904"/>
                </a:lnTo>
                <a:lnTo>
                  <a:pt x="1320" y="2000"/>
                </a:lnTo>
                <a:lnTo>
                  <a:pt x="1244" y="2004"/>
                </a:lnTo>
                <a:lnTo>
                  <a:pt x="1244" y="2464"/>
                </a:lnTo>
                <a:lnTo>
                  <a:pt x="1160" y="2456"/>
                </a:lnTo>
                <a:lnTo>
                  <a:pt x="1160" y="2188"/>
                </a:lnTo>
                <a:lnTo>
                  <a:pt x="1004" y="2200"/>
                </a:lnTo>
                <a:lnTo>
                  <a:pt x="996" y="2280"/>
                </a:lnTo>
                <a:lnTo>
                  <a:pt x="840" y="2292"/>
                </a:lnTo>
                <a:lnTo>
                  <a:pt x="840" y="2380"/>
                </a:lnTo>
                <a:lnTo>
                  <a:pt x="752" y="2380"/>
                </a:lnTo>
                <a:lnTo>
                  <a:pt x="748" y="2484"/>
                </a:lnTo>
                <a:lnTo>
                  <a:pt x="596" y="2476"/>
                </a:lnTo>
                <a:lnTo>
                  <a:pt x="592" y="2376"/>
                </a:lnTo>
                <a:lnTo>
                  <a:pt x="504" y="2376"/>
                </a:lnTo>
                <a:lnTo>
                  <a:pt x="496" y="2468"/>
                </a:lnTo>
                <a:lnTo>
                  <a:pt x="424" y="2468"/>
                </a:lnTo>
                <a:lnTo>
                  <a:pt x="420" y="2564"/>
                </a:lnTo>
                <a:lnTo>
                  <a:pt x="748" y="2576"/>
                </a:lnTo>
                <a:lnTo>
                  <a:pt x="752" y="2660"/>
                </a:lnTo>
                <a:lnTo>
                  <a:pt x="660" y="2652"/>
                </a:lnTo>
                <a:lnTo>
                  <a:pt x="668" y="2764"/>
                </a:lnTo>
                <a:lnTo>
                  <a:pt x="580" y="2756"/>
                </a:lnTo>
                <a:lnTo>
                  <a:pt x="580" y="2656"/>
                </a:lnTo>
                <a:lnTo>
                  <a:pt x="4" y="2664"/>
                </a:lnTo>
                <a:lnTo>
                  <a:pt x="0" y="2756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89160" y="5181480"/>
            <a:ext cx="5187960" cy="4311720"/>
          </a:xfrm>
          <a:custGeom>
            <a:avLst/>
            <a:gdLst/>
            <a:ahLst/>
            <a:rect l="l" t="t" r="r" b="b"/>
            <a:pathLst>
              <a:path w="3268" h="2716">
                <a:moveTo>
                  <a:pt x="4" y="2688"/>
                </a:moveTo>
                <a:lnTo>
                  <a:pt x="92" y="2708"/>
                </a:lnTo>
                <a:lnTo>
                  <a:pt x="96" y="2612"/>
                </a:lnTo>
                <a:lnTo>
                  <a:pt x="184" y="2616"/>
                </a:lnTo>
                <a:lnTo>
                  <a:pt x="180" y="2532"/>
                </a:lnTo>
                <a:lnTo>
                  <a:pt x="260" y="2532"/>
                </a:lnTo>
                <a:lnTo>
                  <a:pt x="276" y="2432"/>
                </a:lnTo>
                <a:lnTo>
                  <a:pt x="688" y="2428"/>
                </a:lnTo>
                <a:lnTo>
                  <a:pt x="680" y="2528"/>
                </a:lnTo>
                <a:lnTo>
                  <a:pt x="596" y="2528"/>
                </a:lnTo>
                <a:lnTo>
                  <a:pt x="600" y="2716"/>
                </a:lnTo>
                <a:lnTo>
                  <a:pt x="768" y="2704"/>
                </a:lnTo>
                <a:lnTo>
                  <a:pt x="772" y="2532"/>
                </a:lnTo>
                <a:lnTo>
                  <a:pt x="852" y="2528"/>
                </a:lnTo>
                <a:lnTo>
                  <a:pt x="852" y="2432"/>
                </a:lnTo>
                <a:lnTo>
                  <a:pt x="1172" y="2432"/>
                </a:lnTo>
                <a:lnTo>
                  <a:pt x="1176" y="2616"/>
                </a:lnTo>
                <a:lnTo>
                  <a:pt x="1100" y="2628"/>
                </a:lnTo>
                <a:lnTo>
                  <a:pt x="1100" y="2528"/>
                </a:lnTo>
                <a:lnTo>
                  <a:pt x="944" y="2528"/>
                </a:lnTo>
                <a:lnTo>
                  <a:pt x="928" y="2612"/>
                </a:lnTo>
                <a:lnTo>
                  <a:pt x="852" y="2612"/>
                </a:lnTo>
                <a:lnTo>
                  <a:pt x="840" y="2712"/>
                </a:lnTo>
                <a:lnTo>
                  <a:pt x="1444" y="2708"/>
                </a:lnTo>
                <a:lnTo>
                  <a:pt x="1440" y="2616"/>
                </a:lnTo>
                <a:lnTo>
                  <a:pt x="1268" y="2616"/>
                </a:lnTo>
                <a:lnTo>
                  <a:pt x="1276" y="2524"/>
                </a:lnTo>
                <a:lnTo>
                  <a:pt x="1360" y="2528"/>
                </a:lnTo>
                <a:lnTo>
                  <a:pt x="1352" y="2428"/>
                </a:lnTo>
                <a:lnTo>
                  <a:pt x="1276" y="2432"/>
                </a:lnTo>
                <a:lnTo>
                  <a:pt x="1272" y="2344"/>
                </a:lnTo>
                <a:lnTo>
                  <a:pt x="1368" y="2352"/>
                </a:lnTo>
                <a:lnTo>
                  <a:pt x="1352" y="2248"/>
                </a:lnTo>
                <a:lnTo>
                  <a:pt x="1440" y="2252"/>
                </a:lnTo>
                <a:lnTo>
                  <a:pt x="1436" y="2344"/>
                </a:lnTo>
                <a:lnTo>
                  <a:pt x="1600" y="2348"/>
                </a:lnTo>
                <a:lnTo>
                  <a:pt x="1608" y="2428"/>
                </a:lnTo>
                <a:lnTo>
                  <a:pt x="1768" y="2432"/>
                </a:lnTo>
                <a:lnTo>
                  <a:pt x="1772" y="2328"/>
                </a:lnTo>
                <a:lnTo>
                  <a:pt x="1696" y="2340"/>
                </a:lnTo>
                <a:lnTo>
                  <a:pt x="1700" y="2244"/>
                </a:lnTo>
                <a:lnTo>
                  <a:pt x="1616" y="2248"/>
                </a:lnTo>
                <a:lnTo>
                  <a:pt x="1616" y="1968"/>
                </a:lnTo>
                <a:lnTo>
                  <a:pt x="1864" y="1968"/>
                </a:lnTo>
                <a:lnTo>
                  <a:pt x="1864" y="1872"/>
                </a:lnTo>
                <a:lnTo>
                  <a:pt x="1940" y="1868"/>
                </a:lnTo>
                <a:lnTo>
                  <a:pt x="1940" y="1692"/>
                </a:lnTo>
                <a:lnTo>
                  <a:pt x="1856" y="1688"/>
                </a:lnTo>
                <a:lnTo>
                  <a:pt x="1856" y="1604"/>
                </a:lnTo>
                <a:lnTo>
                  <a:pt x="1696" y="1604"/>
                </a:lnTo>
                <a:lnTo>
                  <a:pt x="1684" y="1500"/>
                </a:lnTo>
                <a:lnTo>
                  <a:pt x="1600" y="1508"/>
                </a:lnTo>
                <a:lnTo>
                  <a:pt x="1604" y="1400"/>
                </a:lnTo>
                <a:lnTo>
                  <a:pt x="1680" y="1404"/>
                </a:lnTo>
                <a:lnTo>
                  <a:pt x="1692" y="1320"/>
                </a:lnTo>
                <a:lnTo>
                  <a:pt x="1784" y="1316"/>
                </a:lnTo>
                <a:lnTo>
                  <a:pt x="1784" y="1216"/>
                </a:lnTo>
                <a:lnTo>
                  <a:pt x="1700" y="1228"/>
                </a:lnTo>
                <a:lnTo>
                  <a:pt x="1700" y="1128"/>
                </a:lnTo>
                <a:lnTo>
                  <a:pt x="1612" y="1140"/>
                </a:lnTo>
                <a:lnTo>
                  <a:pt x="1616" y="1236"/>
                </a:lnTo>
                <a:lnTo>
                  <a:pt x="1520" y="1240"/>
                </a:lnTo>
                <a:lnTo>
                  <a:pt x="1520" y="1596"/>
                </a:lnTo>
                <a:lnTo>
                  <a:pt x="1608" y="1604"/>
                </a:lnTo>
                <a:lnTo>
                  <a:pt x="1608" y="1680"/>
                </a:lnTo>
                <a:lnTo>
                  <a:pt x="1268" y="1688"/>
                </a:lnTo>
                <a:lnTo>
                  <a:pt x="1280" y="1600"/>
                </a:lnTo>
                <a:lnTo>
                  <a:pt x="1192" y="1604"/>
                </a:lnTo>
                <a:lnTo>
                  <a:pt x="1188" y="1688"/>
                </a:lnTo>
                <a:lnTo>
                  <a:pt x="928" y="1688"/>
                </a:lnTo>
                <a:lnTo>
                  <a:pt x="928" y="1600"/>
                </a:lnTo>
                <a:lnTo>
                  <a:pt x="772" y="1592"/>
                </a:lnTo>
                <a:lnTo>
                  <a:pt x="768" y="1692"/>
                </a:lnTo>
                <a:lnTo>
                  <a:pt x="848" y="1696"/>
                </a:lnTo>
                <a:lnTo>
                  <a:pt x="856" y="1780"/>
                </a:lnTo>
                <a:lnTo>
                  <a:pt x="1024" y="1784"/>
                </a:lnTo>
                <a:lnTo>
                  <a:pt x="1016" y="1868"/>
                </a:lnTo>
                <a:lnTo>
                  <a:pt x="1100" y="1872"/>
                </a:lnTo>
                <a:lnTo>
                  <a:pt x="1104" y="1780"/>
                </a:lnTo>
                <a:lnTo>
                  <a:pt x="1268" y="1784"/>
                </a:lnTo>
                <a:lnTo>
                  <a:pt x="1268" y="1872"/>
                </a:lnTo>
                <a:lnTo>
                  <a:pt x="1352" y="1876"/>
                </a:lnTo>
                <a:lnTo>
                  <a:pt x="1356" y="1792"/>
                </a:lnTo>
                <a:lnTo>
                  <a:pt x="1520" y="1788"/>
                </a:lnTo>
                <a:lnTo>
                  <a:pt x="1520" y="1972"/>
                </a:lnTo>
                <a:lnTo>
                  <a:pt x="1104" y="1976"/>
                </a:lnTo>
                <a:lnTo>
                  <a:pt x="1100" y="2252"/>
                </a:lnTo>
                <a:lnTo>
                  <a:pt x="1016" y="2248"/>
                </a:lnTo>
                <a:lnTo>
                  <a:pt x="1016" y="2344"/>
                </a:lnTo>
                <a:lnTo>
                  <a:pt x="940" y="2352"/>
                </a:lnTo>
                <a:lnTo>
                  <a:pt x="928" y="2248"/>
                </a:lnTo>
                <a:lnTo>
                  <a:pt x="768" y="2248"/>
                </a:lnTo>
                <a:lnTo>
                  <a:pt x="772" y="2156"/>
                </a:lnTo>
                <a:lnTo>
                  <a:pt x="692" y="2164"/>
                </a:lnTo>
                <a:lnTo>
                  <a:pt x="680" y="2340"/>
                </a:lnTo>
                <a:lnTo>
                  <a:pt x="600" y="2352"/>
                </a:lnTo>
                <a:lnTo>
                  <a:pt x="596" y="2244"/>
                </a:lnTo>
                <a:lnTo>
                  <a:pt x="448" y="2240"/>
                </a:lnTo>
                <a:lnTo>
                  <a:pt x="436" y="2340"/>
                </a:lnTo>
                <a:lnTo>
                  <a:pt x="264" y="2340"/>
                </a:lnTo>
                <a:lnTo>
                  <a:pt x="268" y="2152"/>
                </a:lnTo>
                <a:lnTo>
                  <a:pt x="104" y="2144"/>
                </a:lnTo>
                <a:lnTo>
                  <a:pt x="104" y="1972"/>
                </a:lnTo>
                <a:lnTo>
                  <a:pt x="16" y="1968"/>
                </a:lnTo>
                <a:lnTo>
                  <a:pt x="8" y="1876"/>
                </a:lnTo>
                <a:lnTo>
                  <a:pt x="96" y="1872"/>
                </a:lnTo>
                <a:lnTo>
                  <a:pt x="96" y="1692"/>
                </a:lnTo>
                <a:lnTo>
                  <a:pt x="8" y="1688"/>
                </a:lnTo>
                <a:lnTo>
                  <a:pt x="12" y="1596"/>
                </a:lnTo>
                <a:lnTo>
                  <a:pt x="352" y="1592"/>
                </a:lnTo>
                <a:lnTo>
                  <a:pt x="352" y="1328"/>
                </a:lnTo>
                <a:lnTo>
                  <a:pt x="432" y="1312"/>
                </a:lnTo>
                <a:lnTo>
                  <a:pt x="432" y="1684"/>
                </a:lnTo>
                <a:lnTo>
                  <a:pt x="356" y="1692"/>
                </a:lnTo>
                <a:lnTo>
                  <a:pt x="352" y="1776"/>
                </a:lnTo>
                <a:lnTo>
                  <a:pt x="276" y="1780"/>
                </a:lnTo>
                <a:lnTo>
                  <a:pt x="272" y="1680"/>
                </a:lnTo>
                <a:lnTo>
                  <a:pt x="188" y="1684"/>
                </a:lnTo>
                <a:lnTo>
                  <a:pt x="184" y="1876"/>
                </a:lnTo>
                <a:lnTo>
                  <a:pt x="268" y="1880"/>
                </a:lnTo>
                <a:lnTo>
                  <a:pt x="268" y="2056"/>
                </a:lnTo>
                <a:lnTo>
                  <a:pt x="512" y="2048"/>
                </a:lnTo>
                <a:lnTo>
                  <a:pt x="516" y="1696"/>
                </a:lnTo>
                <a:lnTo>
                  <a:pt x="600" y="1688"/>
                </a:lnTo>
                <a:lnTo>
                  <a:pt x="592" y="1512"/>
                </a:lnTo>
                <a:lnTo>
                  <a:pt x="512" y="1508"/>
                </a:lnTo>
                <a:lnTo>
                  <a:pt x="508" y="1236"/>
                </a:lnTo>
                <a:lnTo>
                  <a:pt x="268" y="1240"/>
                </a:lnTo>
                <a:lnTo>
                  <a:pt x="264" y="1400"/>
                </a:lnTo>
                <a:lnTo>
                  <a:pt x="176" y="1412"/>
                </a:lnTo>
                <a:lnTo>
                  <a:pt x="176" y="1500"/>
                </a:lnTo>
                <a:lnTo>
                  <a:pt x="4" y="1500"/>
                </a:lnTo>
                <a:lnTo>
                  <a:pt x="0" y="1412"/>
                </a:lnTo>
                <a:lnTo>
                  <a:pt x="100" y="1408"/>
                </a:lnTo>
                <a:lnTo>
                  <a:pt x="100" y="1224"/>
                </a:lnTo>
                <a:lnTo>
                  <a:pt x="8" y="1212"/>
                </a:lnTo>
                <a:lnTo>
                  <a:pt x="8" y="488"/>
                </a:lnTo>
                <a:lnTo>
                  <a:pt x="100" y="464"/>
                </a:lnTo>
                <a:lnTo>
                  <a:pt x="96" y="296"/>
                </a:lnTo>
                <a:lnTo>
                  <a:pt x="12" y="296"/>
                </a:lnTo>
                <a:lnTo>
                  <a:pt x="12" y="196"/>
                </a:lnTo>
                <a:lnTo>
                  <a:pt x="184" y="200"/>
                </a:lnTo>
                <a:lnTo>
                  <a:pt x="184" y="20"/>
                </a:lnTo>
                <a:lnTo>
                  <a:pt x="264" y="16"/>
                </a:lnTo>
                <a:lnTo>
                  <a:pt x="264" y="124"/>
                </a:lnTo>
                <a:lnTo>
                  <a:pt x="348" y="112"/>
                </a:lnTo>
                <a:lnTo>
                  <a:pt x="352" y="16"/>
                </a:lnTo>
                <a:lnTo>
                  <a:pt x="520" y="12"/>
                </a:lnTo>
                <a:lnTo>
                  <a:pt x="516" y="112"/>
                </a:lnTo>
                <a:lnTo>
                  <a:pt x="600" y="112"/>
                </a:lnTo>
                <a:lnTo>
                  <a:pt x="604" y="208"/>
                </a:lnTo>
                <a:lnTo>
                  <a:pt x="440" y="212"/>
                </a:lnTo>
                <a:lnTo>
                  <a:pt x="428" y="480"/>
                </a:lnTo>
                <a:lnTo>
                  <a:pt x="596" y="496"/>
                </a:lnTo>
                <a:lnTo>
                  <a:pt x="600" y="668"/>
                </a:lnTo>
                <a:lnTo>
                  <a:pt x="516" y="668"/>
                </a:lnTo>
                <a:lnTo>
                  <a:pt x="508" y="760"/>
                </a:lnTo>
                <a:lnTo>
                  <a:pt x="676" y="768"/>
                </a:lnTo>
                <a:lnTo>
                  <a:pt x="684" y="680"/>
                </a:lnTo>
                <a:lnTo>
                  <a:pt x="768" y="664"/>
                </a:lnTo>
                <a:lnTo>
                  <a:pt x="768" y="844"/>
                </a:lnTo>
                <a:lnTo>
                  <a:pt x="848" y="844"/>
                </a:lnTo>
                <a:lnTo>
                  <a:pt x="844" y="932"/>
                </a:lnTo>
                <a:lnTo>
                  <a:pt x="768" y="936"/>
                </a:lnTo>
                <a:lnTo>
                  <a:pt x="764" y="1032"/>
                </a:lnTo>
                <a:lnTo>
                  <a:pt x="860" y="1032"/>
                </a:lnTo>
                <a:lnTo>
                  <a:pt x="852" y="1116"/>
                </a:lnTo>
                <a:lnTo>
                  <a:pt x="940" y="1124"/>
                </a:lnTo>
                <a:lnTo>
                  <a:pt x="932" y="1216"/>
                </a:lnTo>
                <a:lnTo>
                  <a:pt x="852" y="1228"/>
                </a:lnTo>
                <a:lnTo>
                  <a:pt x="844" y="1312"/>
                </a:lnTo>
                <a:lnTo>
                  <a:pt x="700" y="1316"/>
                </a:lnTo>
                <a:lnTo>
                  <a:pt x="696" y="1412"/>
                </a:lnTo>
                <a:lnTo>
                  <a:pt x="852" y="1408"/>
                </a:lnTo>
                <a:lnTo>
                  <a:pt x="852" y="1500"/>
                </a:lnTo>
                <a:lnTo>
                  <a:pt x="1020" y="1504"/>
                </a:lnTo>
                <a:lnTo>
                  <a:pt x="1020" y="1604"/>
                </a:lnTo>
                <a:lnTo>
                  <a:pt x="1104" y="1600"/>
                </a:lnTo>
                <a:lnTo>
                  <a:pt x="1104" y="1500"/>
                </a:lnTo>
                <a:lnTo>
                  <a:pt x="1268" y="1500"/>
                </a:lnTo>
                <a:lnTo>
                  <a:pt x="1276" y="1408"/>
                </a:lnTo>
                <a:lnTo>
                  <a:pt x="1424" y="1408"/>
                </a:lnTo>
                <a:lnTo>
                  <a:pt x="1436" y="1312"/>
                </a:lnTo>
                <a:lnTo>
                  <a:pt x="1352" y="1328"/>
                </a:lnTo>
                <a:lnTo>
                  <a:pt x="1356" y="1224"/>
                </a:lnTo>
                <a:lnTo>
                  <a:pt x="1432" y="1220"/>
                </a:lnTo>
                <a:lnTo>
                  <a:pt x="1432" y="1028"/>
                </a:lnTo>
                <a:lnTo>
                  <a:pt x="1368" y="1032"/>
                </a:lnTo>
                <a:lnTo>
                  <a:pt x="1340" y="1128"/>
                </a:lnTo>
                <a:lnTo>
                  <a:pt x="1184" y="1132"/>
                </a:lnTo>
                <a:lnTo>
                  <a:pt x="1180" y="940"/>
                </a:lnTo>
                <a:lnTo>
                  <a:pt x="1268" y="924"/>
                </a:lnTo>
                <a:lnTo>
                  <a:pt x="1268" y="676"/>
                </a:lnTo>
                <a:lnTo>
                  <a:pt x="1100" y="680"/>
                </a:lnTo>
                <a:lnTo>
                  <a:pt x="1112" y="576"/>
                </a:lnTo>
                <a:lnTo>
                  <a:pt x="1348" y="584"/>
                </a:lnTo>
                <a:lnTo>
                  <a:pt x="1356" y="668"/>
                </a:lnTo>
                <a:lnTo>
                  <a:pt x="1512" y="668"/>
                </a:lnTo>
                <a:lnTo>
                  <a:pt x="1520" y="572"/>
                </a:lnTo>
                <a:lnTo>
                  <a:pt x="1436" y="572"/>
                </a:lnTo>
                <a:lnTo>
                  <a:pt x="1432" y="488"/>
                </a:lnTo>
                <a:lnTo>
                  <a:pt x="1272" y="492"/>
                </a:lnTo>
                <a:lnTo>
                  <a:pt x="1276" y="384"/>
                </a:lnTo>
                <a:lnTo>
                  <a:pt x="1356" y="388"/>
                </a:lnTo>
                <a:lnTo>
                  <a:pt x="1364" y="296"/>
                </a:lnTo>
                <a:lnTo>
                  <a:pt x="1436" y="300"/>
                </a:lnTo>
                <a:lnTo>
                  <a:pt x="1448" y="208"/>
                </a:lnTo>
                <a:lnTo>
                  <a:pt x="1608" y="200"/>
                </a:lnTo>
                <a:lnTo>
                  <a:pt x="1604" y="296"/>
                </a:lnTo>
                <a:lnTo>
                  <a:pt x="1532" y="296"/>
                </a:lnTo>
                <a:lnTo>
                  <a:pt x="1524" y="476"/>
                </a:lnTo>
                <a:lnTo>
                  <a:pt x="1692" y="476"/>
                </a:lnTo>
                <a:lnTo>
                  <a:pt x="1688" y="668"/>
                </a:lnTo>
                <a:lnTo>
                  <a:pt x="2016" y="672"/>
                </a:lnTo>
                <a:lnTo>
                  <a:pt x="2028" y="576"/>
                </a:lnTo>
                <a:lnTo>
                  <a:pt x="1936" y="576"/>
                </a:lnTo>
                <a:lnTo>
                  <a:pt x="1940" y="484"/>
                </a:lnTo>
                <a:lnTo>
                  <a:pt x="2020" y="472"/>
                </a:lnTo>
                <a:lnTo>
                  <a:pt x="2020" y="296"/>
                </a:lnTo>
                <a:lnTo>
                  <a:pt x="1844" y="296"/>
                </a:lnTo>
                <a:lnTo>
                  <a:pt x="1852" y="204"/>
                </a:lnTo>
                <a:lnTo>
                  <a:pt x="1768" y="208"/>
                </a:lnTo>
                <a:lnTo>
                  <a:pt x="1776" y="108"/>
                </a:lnTo>
                <a:lnTo>
                  <a:pt x="1852" y="108"/>
                </a:lnTo>
                <a:lnTo>
                  <a:pt x="1864" y="12"/>
                </a:lnTo>
                <a:lnTo>
                  <a:pt x="2024" y="4"/>
                </a:lnTo>
                <a:lnTo>
                  <a:pt x="2024" y="96"/>
                </a:lnTo>
                <a:lnTo>
                  <a:pt x="1940" y="104"/>
                </a:lnTo>
                <a:lnTo>
                  <a:pt x="1948" y="208"/>
                </a:lnTo>
                <a:lnTo>
                  <a:pt x="2104" y="204"/>
                </a:lnTo>
                <a:lnTo>
                  <a:pt x="2116" y="108"/>
                </a:lnTo>
                <a:lnTo>
                  <a:pt x="2276" y="112"/>
                </a:lnTo>
                <a:lnTo>
                  <a:pt x="2284" y="16"/>
                </a:lnTo>
                <a:lnTo>
                  <a:pt x="2448" y="4"/>
                </a:lnTo>
                <a:lnTo>
                  <a:pt x="2448" y="112"/>
                </a:lnTo>
                <a:lnTo>
                  <a:pt x="2612" y="112"/>
                </a:lnTo>
                <a:lnTo>
                  <a:pt x="2616" y="12"/>
                </a:lnTo>
                <a:lnTo>
                  <a:pt x="3268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0" y="1752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klein_6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5410080" cy="4495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40" y="6629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hex_1" descr=""/>
          <p:cNvPicPr/>
          <p:nvPr/>
        </p:nvPicPr>
        <p:blipFill>
          <a:blip r:embed="rId2"/>
          <a:stretch/>
        </p:blipFill>
        <p:spPr>
          <a:xfrm>
            <a:off x="1066680" y="5105520"/>
            <a:ext cx="529596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0" y="1752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rund_3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4543560" cy="4543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440" y="6629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klein_3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54007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40" y="1752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ittel_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5391000" cy="4486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" y="6629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mittel_2" descr=""/>
          <p:cNvPicPr/>
          <p:nvPr/>
        </p:nvPicPr>
        <p:blipFill>
          <a:blip r:embed="rId2"/>
          <a:stretch/>
        </p:blipFill>
        <p:spPr>
          <a:xfrm>
            <a:off x="1295280" y="5029200"/>
            <a:ext cx="52959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40" y="1752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ittel_1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529596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0" y="66294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ittel_3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53719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 rot="19093800">
            <a:off x="915840" y="2590920"/>
            <a:ext cx="5942160" cy="4192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ösung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40" y="1752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hex_2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5276880" cy="4496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40" y="6629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und_2" descr=""/>
          <p:cNvPicPr/>
          <p:nvPr/>
        </p:nvPicPr>
        <p:blipFill>
          <a:blip r:embed="rId2"/>
          <a:stretch/>
        </p:blipFill>
        <p:spPr>
          <a:xfrm>
            <a:off x="1523880" y="5105520"/>
            <a:ext cx="4562640" cy="4562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828800" y="552600"/>
            <a:ext cx="3733920" cy="4171680"/>
          </a:xfrm>
          <a:custGeom>
            <a:avLst/>
            <a:gdLst/>
            <a:ahLst/>
            <a:rect l="l" t="t" r="r" b="b"/>
            <a:pathLst>
              <a:path w="2352" h="2628">
                <a:moveTo>
                  <a:pt x="288" y="2484"/>
                </a:moveTo>
                <a:lnTo>
                  <a:pt x="384" y="2484"/>
                </a:lnTo>
                <a:lnTo>
                  <a:pt x="460" y="2624"/>
                </a:lnTo>
                <a:lnTo>
                  <a:pt x="528" y="2484"/>
                </a:lnTo>
                <a:lnTo>
                  <a:pt x="672" y="2484"/>
                </a:lnTo>
                <a:lnTo>
                  <a:pt x="576" y="2628"/>
                </a:lnTo>
                <a:lnTo>
                  <a:pt x="720" y="2628"/>
                </a:lnTo>
                <a:lnTo>
                  <a:pt x="792" y="2496"/>
                </a:lnTo>
                <a:lnTo>
                  <a:pt x="932" y="2508"/>
                </a:lnTo>
                <a:lnTo>
                  <a:pt x="984" y="2396"/>
                </a:lnTo>
                <a:lnTo>
                  <a:pt x="840" y="2172"/>
                </a:lnTo>
                <a:lnTo>
                  <a:pt x="728" y="2412"/>
                </a:lnTo>
                <a:lnTo>
                  <a:pt x="672" y="2292"/>
                </a:lnTo>
                <a:lnTo>
                  <a:pt x="576" y="2388"/>
                </a:lnTo>
                <a:lnTo>
                  <a:pt x="432" y="2388"/>
                </a:lnTo>
                <a:lnTo>
                  <a:pt x="528" y="2292"/>
                </a:lnTo>
                <a:lnTo>
                  <a:pt x="384" y="2052"/>
                </a:lnTo>
                <a:lnTo>
                  <a:pt x="240" y="2052"/>
                </a:lnTo>
                <a:lnTo>
                  <a:pt x="48" y="1716"/>
                </a:lnTo>
                <a:lnTo>
                  <a:pt x="144" y="1620"/>
                </a:lnTo>
                <a:lnTo>
                  <a:pt x="0" y="1428"/>
                </a:lnTo>
                <a:lnTo>
                  <a:pt x="288" y="1428"/>
                </a:lnTo>
                <a:lnTo>
                  <a:pt x="48" y="1092"/>
                </a:lnTo>
                <a:lnTo>
                  <a:pt x="584" y="1096"/>
                </a:lnTo>
                <a:lnTo>
                  <a:pt x="656" y="1236"/>
                </a:lnTo>
                <a:lnTo>
                  <a:pt x="720" y="1080"/>
                </a:lnTo>
                <a:lnTo>
                  <a:pt x="792" y="1192"/>
                </a:lnTo>
                <a:lnTo>
                  <a:pt x="708" y="1304"/>
                </a:lnTo>
                <a:lnTo>
                  <a:pt x="816" y="1428"/>
                </a:lnTo>
                <a:lnTo>
                  <a:pt x="912" y="1428"/>
                </a:lnTo>
                <a:lnTo>
                  <a:pt x="960" y="1332"/>
                </a:lnTo>
                <a:lnTo>
                  <a:pt x="1056" y="1428"/>
                </a:lnTo>
                <a:lnTo>
                  <a:pt x="960" y="1524"/>
                </a:lnTo>
                <a:lnTo>
                  <a:pt x="1488" y="1524"/>
                </a:lnTo>
                <a:lnTo>
                  <a:pt x="1632" y="1752"/>
                </a:lnTo>
                <a:lnTo>
                  <a:pt x="1484" y="1732"/>
                </a:lnTo>
                <a:lnTo>
                  <a:pt x="1416" y="1860"/>
                </a:lnTo>
                <a:lnTo>
                  <a:pt x="1572" y="1856"/>
                </a:lnTo>
                <a:lnTo>
                  <a:pt x="1488" y="1956"/>
                </a:lnTo>
                <a:lnTo>
                  <a:pt x="1344" y="1956"/>
                </a:lnTo>
                <a:lnTo>
                  <a:pt x="1296" y="1860"/>
                </a:lnTo>
                <a:lnTo>
                  <a:pt x="1248" y="1956"/>
                </a:lnTo>
                <a:lnTo>
                  <a:pt x="960" y="1956"/>
                </a:lnTo>
                <a:lnTo>
                  <a:pt x="912" y="1860"/>
                </a:lnTo>
                <a:lnTo>
                  <a:pt x="768" y="1860"/>
                </a:lnTo>
                <a:lnTo>
                  <a:pt x="836" y="1736"/>
                </a:lnTo>
                <a:lnTo>
                  <a:pt x="988" y="1728"/>
                </a:lnTo>
                <a:lnTo>
                  <a:pt x="1056" y="1860"/>
                </a:lnTo>
                <a:lnTo>
                  <a:pt x="1104" y="1716"/>
                </a:lnTo>
                <a:lnTo>
                  <a:pt x="1052" y="1636"/>
                </a:lnTo>
                <a:lnTo>
                  <a:pt x="772" y="1640"/>
                </a:lnTo>
                <a:lnTo>
                  <a:pt x="720" y="1764"/>
                </a:lnTo>
                <a:lnTo>
                  <a:pt x="576" y="1524"/>
                </a:lnTo>
                <a:lnTo>
                  <a:pt x="624" y="1428"/>
                </a:lnTo>
                <a:lnTo>
                  <a:pt x="432" y="1332"/>
                </a:lnTo>
                <a:lnTo>
                  <a:pt x="336" y="1524"/>
                </a:lnTo>
                <a:lnTo>
                  <a:pt x="192" y="1524"/>
                </a:lnTo>
                <a:lnTo>
                  <a:pt x="256" y="1640"/>
                </a:lnTo>
                <a:lnTo>
                  <a:pt x="204" y="1736"/>
                </a:lnTo>
                <a:lnTo>
                  <a:pt x="336" y="1956"/>
                </a:lnTo>
                <a:lnTo>
                  <a:pt x="480" y="1956"/>
                </a:lnTo>
                <a:lnTo>
                  <a:pt x="584" y="2180"/>
                </a:lnTo>
                <a:lnTo>
                  <a:pt x="716" y="2176"/>
                </a:lnTo>
                <a:lnTo>
                  <a:pt x="580" y="1968"/>
                </a:lnTo>
                <a:lnTo>
                  <a:pt x="652" y="1840"/>
                </a:lnTo>
                <a:lnTo>
                  <a:pt x="780" y="2096"/>
                </a:lnTo>
                <a:lnTo>
                  <a:pt x="912" y="2052"/>
                </a:lnTo>
                <a:lnTo>
                  <a:pt x="1104" y="2388"/>
                </a:lnTo>
                <a:lnTo>
                  <a:pt x="1152" y="2292"/>
                </a:lnTo>
                <a:lnTo>
                  <a:pt x="1296" y="2292"/>
                </a:lnTo>
                <a:lnTo>
                  <a:pt x="1392" y="2388"/>
                </a:lnTo>
                <a:lnTo>
                  <a:pt x="1488" y="2180"/>
                </a:lnTo>
                <a:lnTo>
                  <a:pt x="1640" y="2176"/>
                </a:lnTo>
                <a:lnTo>
                  <a:pt x="1680" y="2292"/>
                </a:lnTo>
                <a:lnTo>
                  <a:pt x="2064" y="2292"/>
                </a:lnTo>
                <a:lnTo>
                  <a:pt x="1956" y="2064"/>
                </a:lnTo>
                <a:lnTo>
                  <a:pt x="1820" y="2076"/>
                </a:lnTo>
                <a:lnTo>
                  <a:pt x="1756" y="2184"/>
                </a:lnTo>
                <a:lnTo>
                  <a:pt x="1680" y="2052"/>
                </a:lnTo>
                <a:lnTo>
                  <a:pt x="1632" y="1956"/>
                </a:lnTo>
                <a:lnTo>
                  <a:pt x="1680" y="1860"/>
                </a:lnTo>
                <a:lnTo>
                  <a:pt x="1968" y="1860"/>
                </a:lnTo>
                <a:lnTo>
                  <a:pt x="2080" y="2088"/>
                </a:lnTo>
                <a:lnTo>
                  <a:pt x="2208" y="2052"/>
                </a:lnTo>
                <a:lnTo>
                  <a:pt x="2144" y="2184"/>
                </a:lnTo>
                <a:lnTo>
                  <a:pt x="2288" y="2176"/>
                </a:lnTo>
                <a:lnTo>
                  <a:pt x="2340" y="2068"/>
                </a:lnTo>
                <a:lnTo>
                  <a:pt x="2212" y="1856"/>
                </a:lnTo>
                <a:lnTo>
                  <a:pt x="2140" y="1964"/>
                </a:lnTo>
                <a:lnTo>
                  <a:pt x="2008" y="1752"/>
                </a:lnTo>
                <a:lnTo>
                  <a:pt x="2144" y="1508"/>
                </a:lnTo>
                <a:lnTo>
                  <a:pt x="2208" y="1620"/>
                </a:lnTo>
                <a:lnTo>
                  <a:pt x="2352" y="1428"/>
                </a:lnTo>
                <a:lnTo>
                  <a:pt x="2208" y="1428"/>
                </a:lnTo>
                <a:lnTo>
                  <a:pt x="2284" y="1308"/>
                </a:lnTo>
                <a:lnTo>
                  <a:pt x="2204" y="1192"/>
                </a:lnTo>
                <a:lnTo>
                  <a:pt x="2144" y="1312"/>
                </a:lnTo>
                <a:lnTo>
                  <a:pt x="2016" y="1296"/>
                </a:lnTo>
                <a:lnTo>
                  <a:pt x="1948" y="1428"/>
                </a:lnTo>
                <a:lnTo>
                  <a:pt x="1816" y="1404"/>
                </a:lnTo>
                <a:lnTo>
                  <a:pt x="1752" y="1532"/>
                </a:lnTo>
                <a:lnTo>
                  <a:pt x="1824" y="1620"/>
                </a:lnTo>
                <a:lnTo>
                  <a:pt x="1748" y="1740"/>
                </a:lnTo>
                <a:lnTo>
                  <a:pt x="1556" y="1408"/>
                </a:lnTo>
                <a:lnTo>
                  <a:pt x="1680" y="1428"/>
                </a:lnTo>
                <a:lnTo>
                  <a:pt x="1632" y="1284"/>
                </a:lnTo>
                <a:lnTo>
                  <a:pt x="1692" y="1204"/>
                </a:lnTo>
                <a:lnTo>
                  <a:pt x="2076" y="1204"/>
                </a:lnTo>
                <a:lnTo>
                  <a:pt x="2016" y="1092"/>
                </a:lnTo>
                <a:lnTo>
                  <a:pt x="2064" y="996"/>
                </a:lnTo>
                <a:lnTo>
                  <a:pt x="2016" y="868"/>
                </a:lnTo>
                <a:lnTo>
                  <a:pt x="1940" y="980"/>
                </a:lnTo>
                <a:lnTo>
                  <a:pt x="1872" y="1092"/>
                </a:lnTo>
                <a:lnTo>
                  <a:pt x="1824" y="996"/>
                </a:lnTo>
                <a:lnTo>
                  <a:pt x="1680" y="968"/>
                </a:lnTo>
                <a:lnTo>
                  <a:pt x="1620" y="888"/>
                </a:lnTo>
                <a:lnTo>
                  <a:pt x="1760" y="668"/>
                </a:lnTo>
                <a:lnTo>
                  <a:pt x="1616" y="652"/>
                </a:lnTo>
                <a:lnTo>
                  <a:pt x="1556" y="772"/>
                </a:lnTo>
                <a:lnTo>
                  <a:pt x="1508" y="660"/>
                </a:lnTo>
                <a:lnTo>
                  <a:pt x="1424" y="544"/>
                </a:lnTo>
                <a:lnTo>
                  <a:pt x="1372" y="672"/>
                </a:lnTo>
                <a:lnTo>
                  <a:pt x="1304" y="544"/>
                </a:lnTo>
                <a:lnTo>
                  <a:pt x="1156" y="540"/>
                </a:lnTo>
                <a:lnTo>
                  <a:pt x="1248" y="660"/>
                </a:lnTo>
                <a:lnTo>
                  <a:pt x="960" y="660"/>
                </a:lnTo>
                <a:lnTo>
                  <a:pt x="1104" y="444"/>
                </a:lnTo>
                <a:lnTo>
                  <a:pt x="964" y="224"/>
                </a:lnTo>
                <a:lnTo>
                  <a:pt x="1104" y="12"/>
                </a:lnTo>
                <a:lnTo>
                  <a:pt x="1896" y="20"/>
                </a:lnTo>
                <a:lnTo>
                  <a:pt x="1948" y="132"/>
                </a:lnTo>
                <a:lnTo>
                  <a:pt x="2016" y="0"/>
                </a:lnTo>
                <a:lnTo>
                  <a:pt x="2088" y="116"/>
                </a:lnTo>
                <a:lnTo>
                  <a:pt x="2016" y="228"/>
                </a:lnTo>
                <a:lnTo>
                  <a:pt x="2160" y="228"/>
                </a:lnTo>
                <a:lnTo>
                  <a:pt x="2208" y="324"/>
                </a:lnTo>
                <a:lnTo>
                  <a:pt x="2304" y="22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5943600"/>
            <a:ext cx="3079800" cy="3505320"/>
          </a:xfrm>
          <a:custGeom>
            <a:avLst/>
            <a:gdLst/>
            <a:ahLst/>
            <a:rect l="l" t="t" r="r" b="b"/>
            <a:pathLst>
              <a:path w="1940" h="2208">
                <a:moveTo>
                  <a:pt x="0" y="2160"/>
                </a:moveTo>
                <a:lnTo>
                  <a:pt x="48" y="2088"/>
                </a:lnTo>
                <a:lnTo>
                  <a:pt x="208" y="2152"/>
                </a:lnTo>
                <a:lnTo>
                  <a:pt x="268" y="1952"/>
                </a:lnTo>
                <a:lnTo>
                  <a:pt x="192" y="1920"/>
                </a:lnTo>
                <a:lnTo>
                  <a:pt x="192" y="1824"/>
                </a:lnTo>
                <a:lnTo>
                  <a:pt x="144" y="1776"/>
                </a:lnTo>
                <a:lnTo>
                  <a:pt x="204" y="1592"/>
                </a:lnTo>
                <a:lnTo>
                  <a:pt x="288" y="1632"/>
                </a:lnTo>
                <a:lnTo>
                  <a:pt x="284" y="1744"/>
                </a:lnTo>
                <a:lnTo>
                  <a:pt x="360" y="1904"/>
                </a:lnTo>
                <a:lnTo>
                  <a:pt x="672" y="1920"/>
                </a:lnTo>
                <a:lnTo>
                  <a:pt x="672" y="2016"/>
                </a:lnTo>
                <a:lnTo>
                  <a:pt x="816" y="2016"/>
                </a:lnTo>
                <a:lnTo>
                  <a:pt x="864" y="2208"/>
                </a:lnTo>
                <a:lnTo>
                  <a:pt x="1104" y="2112"/>
                </a:lnTo>
                <a:lnTo>
                  <a:pt x="1008" y="1920"/>
                </a:lnTo>
                <a:lnTo>
                  <a:pt x="984" y="2088"/>
                </a:lnTo>
                <a:lnTo>
                  <a:pt x="888" y="1972"/>
                </a:lnTo>
                <a:lnTo>
                  <a:pt x="864" y="1900"/>
                </a:lnTo>
                <a:lnTo>
                  <a:pt x="768" y="1904"/>
                </a:lnTo>
                <a:lnTo>
                  <a:pt x="720" y="1824"/>
                </a:lnTo>
                <a:lnTo>
                  <a:pt x="624" y="1824"/>
                </a:lnTo>
                <a:lnTo>
                  <a:pt x="548" y="1712"/>
                </a:lnTo>
                <a:lnTo>
                  <a:pt x="484" y="1812"/>
                </a:lnTo>
                <a:lnTo>
                  <a:pt x="424" y="1784"/>
                </a:lnTo>
                <a:lnTo>
                  <a:pt x="460" y="1608"/>
                </a:lnTo>
                <a:lnTo>
                  <a:pt x="672" y="1632"/>
                </a:lnTo>
                <a:lnTo>
                  <a:pt x="672" y="1728"/>
                </a:lnTo>
                <a:lnTo>
                  <a:pt x="812" y="1708"/>
                </a:lnTo>
                <a:lnTo>
                  <a:pt x="848" y="1792"/>
                </a:lnTo>
                <a:lnTo>
                  <a:pt x="944" y="1768"/>
                </a:lnTo>
                <a:lnTo>
                  <a:pt x="892" y="1648"/>
                </a:lnTo>
                <a:lnTo>
                  <a:pt x="960" y="1632"/>
                </a:lnTo>
                <a:lnTo>
                  <a:pt x="1056" y="1824"/>
                </a:lnTo>
                <a:lnTo>
                  <a:pt x="1152" y="1776"/>
                </a:lnTo>
                <a:lnTo>
                  <a:pt x="1104" y="1680"/>
                </a:lnTo>
                <a:lnTo>
                  <a:pt x="1240" y="1592"/>
                </a:lnTo>
                <a:lnTo>
                  <a:pt x="1344" y="1728"/>
                </a:lnTo>
                <a:lnTo>
                  <a:pt x="1392" y="1824"/>
                </a:lnTo>
                <a:lnTo>
                  <a:pt x="1388" y="1880"/>
                </a:lnTo>
                <a:lnTo>
                  <a:pt x="1276" y="1796"/>
                </a:lnTo>
                <a:lnTo>
                  <a:pt x="1284" y="1912"/>
                </a:lnTo>
                <a:lnTo>
                  <a:pt x="1244" y="1968"/>
                </a:lnTo>
                <a:lnTo>
                  <a:pt x="1280" y="2064"/>
                </a:lnTo>
                <a:lnTo>
                  <a:pt x="1632" y="1776"/>
                </a:lnTo>
                <a:lnTo>
                  <a:pt x="1748" y="1584"/>
                </a:lnTo>
                <a:lnTo>
                  <a:pt x="1684" y="1500"/>
                </a:lnTo>
                <a:lnTo>
                  <a:pt x="1632" y="1392"/>
                </a:lnTo>
                <a:lnTo>
                  <a:pt x="1824" y="1440"/>
                </a:lnTo>
                <a:lnTo>
                  <a:pt x="1860" y="1348"/>
                </a:lnTo>
                <a:lnTo>
                  <a:pt x="1776" y="1296"/>
                </a:lnTo>
                <a:lnTo>
                  <a:pt x="1808" y="1140"/>
                </a:lnTo>
                <a:lnTo>
                  <a:pt x="1920" y="1152"/>
                </a:lnTo>
                <a:lnTo>
                  <a:pt x="1940" y="928"/>
                </a:lnTo>
                <a:lnTo>
                  <a:pt x="1824" y="960"/>
                </a:lnTo>
                <a:lnTo>
                  <a:pt x="1824" y="1056"/>
                </a:lnTo>
                <a:lnTo>
                  <a:pt x="1728" y="1056"/>
                </a:lnTo>
                <a:lnTo>
                  <a:pt x="1692" y="1168"/>
                </a:lnTo>
                <a:lnTo>
                  <a:pt x="1608" y="1156"/>
                </a:lnTo>
                <a:lnTo>
                  <a:pt x="1632" y="768"/>
                </a:lnTo>
                <a:lnTo>
                  <a:pt x="1488" y="396"/>
                </a:lnTo>
                <a:lnTo>
                  <a:pt x="1316" y="504"/>
                </a:lnTo>
                <a:lnTo>
                  <a:pt x="1344" y="576"/>
                </a:lnTo>
                <a:lnTo>
                  <a:pt x="1460" y="532"/>
                </a:lnTo>
                <a:lnTo>
                  <a:pt x="1472" y="616"/>
                </a:lnTo>
                <a:lnTo>
                  <a:pt x="1380" y="660"/>
                </a:lnTo>
                <a:lnTo>
                  <a:pt x="1436" y="852"/>
                </a:lnTo>
                <a:lnTo>
                  <a:pt x="1428" y="1040"/>
                </a:lnTo>
                <a:lnTo>
                  <a:pt x="1328" y="1020"/>
                </a:lnTo>
                <a:lnTo>
                  <a:pt x="1288" y="1124"/>
                </a:lnTo>
                <a:lnTo>
                  <a:pt x="1220" y="1052"/>
                </a:lnTo>
                <a:lnTo>
                  <a:pt x="1228" y="868"/>
                </a:lnTo>
                <a:lnTo>
                  <a:pt x="1312" y="844"/>
                </a:lnTo>
                <a:lnTo>
                  <a:pt x="1224" y="584"/>
                </a:lnTo>
                <a:lnTo>
                  <a:pt x="1104" y="384"/>
                </a:lnTo>
                <a:lnTo>
                  <a:pt x="988" y="320"/>
                </a:lnTo>
                <a:lnTo>
                  <a:pt x="1084" y="132"/>
                </a:lnTo>
                <a:lnTo>
                  <a:pt x="960" y="96"/>
                </a:lnTo>
                <a:lnTo>
                  <a:pt x="960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89280" y="5562720"/>
            <a:ext cx="959040" cy="1981080"/>
          </a:xfrm>
          <a:custGeom>
            <a:avLst/>
            <a:gdLst/>
            <a:ahLst/>
            <a:rect l="l" t="t" r="r" b="b"/>
            <a:pathLst>
              <a:path w="604" h="1248">
                <a:moveTo>
                  <a:pt x="412" y="240"/>
                </a:moveTo>
                <a:lnTo>
                  <a:pt x="460" y="144"/>
                </a:lnTo>
                <a:lnTo>
                  <a:pt x="532" y="172"/>
                </a:lnTo>
                <a:lnTo>
                  <a:pt x="556" y="48"/>
                </a:lnTo>
                <a:lnTo>
                  <a:pt x="412" y="0"/>
                </a:lnTo>
                <a:lnTo>
                  <a:pt x="316" y="192"/>
                </a:lnTo>
                <a:lnTo>
                  <a:pt x="220" y="192"/>
                </a:lnTo>
                <a:lnTo>
                  <a:pt x="172" y="576"/>
                </a:lnTo>
                <a:lnTo>
                  <a:pt x="412" y="672"/>
                </a:lnTo>
                <a:lnTo>
                  <a:pt x="548" y="788"/>
                </a:lnTo>
                <a:lnTo>
                  <a:pt x="604" y="864"/>
                </a:lnTo>
                <a:lnTo>
                  <a:pt x="508" y="920"/>
                </a:lnTo>
                <a:lnTo>
                  <a:pt x="540" y="1008"/>
                </a:lnTo>
                <a:lnTo>
                  <a:pt x="428" y="1084"/>
                </a:lnTo>
                <a:lnTo>
                  <a:pt x="312" y="1008"/>
                </a:lnTo>
                <a:lnTo>
                  <a:pt x="220" y="1104"/>
                </a:lnTo>
                <a:lnTo>
                  <a:pt x="124" y="1200"/>
                </a:lnTo>
                <a:lnTo>
                  <a:pt x="76" y="1248"/>
                </a:lnTo>
                <a:lnTo>
                  <a:pt x="0" y="1200"/>
                </a:lnTo>
                <a:lnTo>
                  <a:pt x="8" y="1104"/>
                </a:lnTo>
                <a:lnTo>
                  <a:pt x="84" y="1076"/>
                </a:lnTo>
                <a:lnTo>
                  <a:pt x="76" y="115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40" y="1752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klein_6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541008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304920"/>
            <a:ext cx="5105520" cy="4343400"/>
          </a:xfrm>
          <a:custGeom>
            <a:avLst/>
            <a:gdLst/>
            <a:ahLst/>
            <a:rect l="l" t="t" r="r" b="b"/>
            <a:pathLst>
              <a:path w="3216" h="2736">
                <a:moveTo>
                  <a:pt x="0" y="0"/>
                </a:moveTo>
                <a:lnTo>
                  <a:pt x="912" y="0"/>
                </a:lnTo>
                <a:lnTo>
                  <a:pt x="912" y="354"/>
                </a:lnTo>
                <a:lnTo>
                  <a:pt x="816" y="354"/>
                </a:lnTo>
                <a:lnTo>
                  <a:pt x="816" y="624"/>
                </a:lnTo>
                <a:lnTo>
                  <a:pt x="960" y="624"/>
                </a:lnTo>
                <a:lnTo>
                  <a:pt x="960" y="480"/>
                </a:lnTo>
                <a:lnTo>
                  <a:pt x="1080" y="480"/>
                </a:lnTo>
                <a:lnTo>
                  <a:pt x="1080" y="672"/>
                </a:lnTo>
                <a:lnTo>
                  <a:pt x="1200" y="672"/>
                </a:lnTo>
                <a:lnTo>
                  <a:pt x="1200" y="576"/>
                </a:lnTo>
                <a:lnTo>
                  <a:pt x="1488" y="576"/>
                </a:lnTo>
                <a:lnTo>
                  <a:pt x="1488" y="480"/>
                </a:lnTo>
                <a:lnTo>
                  <a:pt x="1200" y="480"/>
                </a:lnTo>
                <a:lnTo>
                  <a:pt x="1200" y="354"/>
                </a:lnTo>
                <a:lnTo>
                  <a:pt x="1488" y="354"/>
                </a:lnTo>
                <a:lnTo>
                  <a:pt x="1488" y="144"/>
                </a:lnTo>
                <a:lnTo>
                  <a:pt x="1344" y="144"/>
                </a:lnTo>
                <a:lnTo>
                  <a:pt x="1344" y="0"/>
                </a:lnTo>
                <a:lnTo>
                  <a:pt x="1728" y="0"/>
                </a:lnTo>
                <a:lnTo>
                  <a:pt x="1728" y="144"/>
                </a:lnTo>
                <a:lnTo>
                  <a:pt x="1872" y="144"/>
                </a:lnTo>
                <a:lnTo>
                  <a:pt x="1872" y="336"/>
                </a:lnTo>
                <a:lnTo>
                  <a:pt x="2016" y="336"/>
                </a:lnTo>
                <a:lnTo>
                  <a:pt x="2016" y="576"/>
                </a:lnTo>
                <a:lnTo>
                  <a:pt x="1728" y="576"/>
                </a:lnTo>
                <a:lnTo>
                  <a:pt x="1728" y="240"/>
                </a:lnTo>
                <a:lnTo>
                  <a:pt x="1584" y="240"/>
                </a:lnTo>
                <a:lnTo>
                  <a:pt x="1584" y="672"/>
                </a:lnTo>
                <a:lnTo>
                  <a:pt x="1872" y="672"/>
                </a:lnTo>
                <a:lnTo>
                  <a:pt x="1872" y="816"/>
                </a:lnTo>
                <a:lnTo>
                  <a:pt x="1584" y="816"/>
                </a:lnTo>
                <a:lnTo>
                  <a:pt x="1584" y="912"/>
                </a:lnTo>
                <a:lnTo>
                  <a:pt x="2016" y="912"/>
                </a:lnTo>
                <a:lnTo>
                  <a:pt x="2016" y="816"/>
                </a:lnTo>
                <a:lnTo>
                  <a:pt x="2160" y="816"/>
                </a:lnTo>
                <a:lnTo>
                  <a:pt x="2160" y="912"/>
                </a:lnTo>
                <a:lnTo>
                  <a:pt x="2544" y="912"/>
                </a:lnTo>
                <a:lnTo>
                  <a:pt x="2544" y="816"/>
                </a:lnTo>
                <a:lnTo>
                  <a:pt x="2304" y="816"/>
                </a:lnTo>
                <a:lnTo>
                  <a:pt x="2304" y="672"/>
                </a:lnTo>
                <a:lnTo>
                  <a:pt x="2400" y="672"/>
                </a:lnTo>
                <a:lnTo>
                  <a:pt x="2400" y="576"/>
                </a:lnTo>
                <a:lnTo>
                  <a:pt x="2256" y="576"/>
                </a:lnTo>
                <a:lnTo>
                  <a:pt x="2256" y="480"/>
                </a:lnTo>
                <a:lnTo>
                  <a:pt x="2160" y="480"/>
                </a:lnTo>
                <a:lnTo>
                  <a:pt x="2160" y="144"/>
                </a:lnTo>
                <a:lnTo>
                  <a:pt x="2016" y="144"/>
                </a:lnTo>
                <a:lnTo>
                  <a:pt x="2016" y="0"/>
                </a:lnTo>
                <a:lnTo>
                  <a:pt x="2400" y="0"/>
                </a:lnTo>
                <a:lnTo>
                  <a:pt x="2400" y="144"/>
                </a:lnTo>
                <a:lnTo>
                  <a:pt x="2544" y="144"/>
                </a:lnTo>
                <a:lnTo>
                  <a:pt x="2544" y="48"/>
                </a:lnTo>
                <a:lnTo>
                  <a:pt x="2688" y="48"/>
                </a:lnTo>
                <a:lnTo>
                  <a:pt x="2688" y="144"/>
                </a:lnTo>
                <a:lnTo>
                  <a:pt x="3216" y="144"/>
                </a:lnTo>
                <a:lnTo>
                  <a:pt x="3216" y="576"/>
                </a:lnTo>
                <a:lnTo>
                  <a:pt x="3072" y="576"/>
                </a:lnTo>
                <a:lnTo>
                  <a:pt x="3072" y="720"/>
                </a:lnTo>
                <a:lnTo>
                  <a:pt x="3216" y="720"/>
                </a:lnTo>
                <a:lnTo>
                  <a:pt x="3216" y="1152"/>
                </a:lnTo>
                <a:lnTo>
                  <a:pt x="3072" y="1149"/>
                </a:lnTo>
                <a:lnTo>
                  <a:pt x="3072" y="816"/>
                </a:lnTo>
                <a:lnTo>
                  <a:pt x="2688" y="816"/>
                </a:lnTo>
                <a:lnTo>
                  <a:pt x="2688" y="1056"/>
                </a:lnTo>
                <a:lnTo>
                  <a:pt x="2400" y="1056"/>
                </a:lnTo>
                <a:lnTo>
                  <a:pt x="2400" y="1152"/>
                </a:lnTo>
                <a:lnTo>
                  <a:pt x="2688" y="1152"/>
                </a:lnTo>
                <a:lnTo>
                  <a:pt x="2688" y="1392"/>
                </a:lnTo>
                <a:lnTo>
                  <a:pt x="2832" y="1392"/>
                </a:lnTo>
                <a:lnTo>
                  <a:pt x="2832" y="1008"/>
                </a:lnTo>
                <a:lnTo>
                  <a:pt x="2928" y="1008"/>
                </a:lnTo>
                <a:lnTo>
                  <a:pt x="2928" y="1248"/>
                </a:lnTo>
                <a:lnTo>
                  <a:pt x="3216" y="1248"/>
                </a:lnTo>
                <a:lnTo>
                  <a:pt x="3216" y="1392"/>
                </a:lnTo>
                <a:lnTo>
                  <a:pt x="2928" y="1392"/>
                </a:lnTo>
                <a:lnTo>
                  <a:pt x="2928" y="1488"/>
                </a:lnTo>
                <a:lnTo>
                  <a:pt x="3072" y="1488"/>
                </a:lnTo>
                <a:lnTo>
                  <a:pt x="3072" y="1584"/>
                </a:lnTo>
                <a:lnTo>
                  <a:pt x="3216" y="1584"/>
                </a:lnTo>
                <a:lnTo>
                  <a:pt x="3216" y="2160"/>
                </a:lnTo>
                <a:lnTo>
                  <a:pt x="3072" y="2160"/>
                </a:lnTo>
                <a:lnTo>
                  <a:pt x="3072" y="2064"/>
                </a:lnTo>
                <a:lnTo>
                  <a:pt x="2832" y="2064"/>
                </a:lnTo>
                <a:lnTo>
                  <a:pt x="2832" y="1920"/>
                </a:lnTo>
                <a:lnTo>
                  <a:pt x="3072" y="1920"/>
                </a:lnTo>
                <a:lnTo>
                  <a:pt x="3072" y="1680"/>
                </a:lnTo>
                <a:lnTo>
                  <a:pt x="2928" y="1680"/>
                </a:lnTo>
                <a:lnTo>
                  <a:pt x="2928" y="1824"/>
                </a:lnTo>
                <a:lnTo>
                  <a:pt x="2784" y="1824"/>
                </a:lnTo>
                <a:lnTo>
                  <a:pt x="2784" y="1488"/>
                </a:lnTo>
                <a:lnTo>
                  <a:pt x="2688" y="1488"/>
                </a:lnTo>
                <a:lnTo>
                  <a:pt x="2688" y="1920"/>
                </a:lnTo>
                <a:lnTo>
                  <a:pt x="2400" y="1917"/>
                </a:lnTo>
                <a:lnTo>
                  <a:pt x="2400" y="1776"/>
                </a:lnTo>
                <a:lnTo>
                  <a:pt x="2160" y="1776"/>
                </a:lnTo>
                <a:lnTo>
                  <a:pt x="2160" y="2160"/>
                </a:lnTo>
                <a:lnTo>
                  <a:pt x="2304" y="2160"/>
                </a:lnTo>
                <a:lnTo>
                  <a:pt x="2304" y="2031"/>
                </a:lnTo>
                <a:lnTo>
                  <a:pt x="2544" y="2031"/>
                </a:lnTo>
                <a:lnTo>
                  <a:pt x="2544" y="2160"/>
                </a:lnTo>
                <a:lnTo>
                  <a:pt x="2832" y="2160"/>
                </a:lnTo>
                <a:lnTo>
                  <a:pt x="2832" y="2352"/>
                </a:lnTo>
                <a:lnTo>
                  <a:pt x="3072" y="2352"/>
                </a:lnTo>
                <a:lnTo>
                  <a:pt x="3072" y="2256"/>
                </a:lnTo>
                <a:lnTo>
                  <a:pt x="3216" y="2256"/>
                </a:lnTo>
                <a:lnTo>
                  <a:pt x="3216" y="2496"/>
                </a:lnTo>
                <a:lnTo>
                  <a:pt x="3072" y="2496"/>
                </a:lnTo>
                <a:lnTo>
                  <a:pt x="3072" y="2592"/>
                </a:lnTo>
                <a:lnTo>
                  <a:pt x="3216" y="2592"/>
                </a:lnTo>
                <a:lnTo>
                  <a:pt x="3216" y="2736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0" y="6629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hex_1" descr=""/>
          <p:cNvPicPr/>
          <p:nvPr/>
        </p:nvPicPr>
        <p:blipFill>
          <a:blip r:embed="rId2"/>
          <a:stretch/>
        </p:blipFill>
        <p:spPr>
          <a:xfrm>
            <a:off x="1066680" y="5105520"/>
            <a:ext cx="5295960" cy="452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19320" y="5264280"/>
            <a:ext cx="4794120" cy="1955520"/>
          </a:xfrm>
          <a:custGeom>
            <a:avLst/>
            <a:gdLst/>
            <a:ahLst/>
            <a:rect l="l" t="t" r="r" b="b"/>
            <a:pathLst>
              <a:path w="3020" h="1232">
                <a:moveTo>
                  <a:pt x="0" y="1052"/>
                </a:moveTo>
                <a:lnTo>
                  <a:pt x="80" y="1228"/>
                </a:lnTo>
                <a:lnTo>
                  <a:pt x="144" y="1100"/>
                </a:lnTo>
                <a:lnTo>
                  <a:pt x="288" y="1100"/>
                </a:lnTo>
                <a:lnTo>
                  <a:pt x="340" y="1232"/>
                </a:lnTo>
                <a:lnTo>
                  <a:pt x="408" y="1104"/>
                </a:lnTo>
                <a:lnTo>
                  <a:pt x="468" y="1216"/>
                </a:lnTo>
                <a:lnTo>
                  <a:pt x="604" y="1212"/>
                </a:lnTo>
                <a:lnTo>
                  <a:pt x="724" y="980"/>
                </a:lnTo>
                <a:lnTo>
                  <a:pt x="864" y="1004"/>
                </a:lnTo>
                <a:lnTo>
                  <a:pt x="780" y="868"/>
                </a:lnTo>
                <a:lnTo>
                  <a:pt x="936" y="876"/>
                </a:lnTo>
                <a:lnTo>
                  <a:pt x="992" y="992"/>
                </a:lnTo>
                <a:lnTo>
                  <a:pt x="928" y="1112"/>
                </a:lnTo>
                <a:lnTo>
                  <a:pt x="1056" y="1100"/>
                </a:lnTo>
                <a:lnTo>
                  <a:pt x="1120" y="988"/>
                </a:lnTo>
                <a:lnTo>
                  <a:pt x="1248" y="1004"/>
                </a:lnTo>
                <a:lnTo>
                  <a:pt x="1176" y="876"/>
                </a:lnTo>
                <a:lnTo>
                  <a:pt x="1320" y="880"/>
                </a:lnTo>
                <a:lnTo>
                  <a:pt x="1372" y="768"/>
                </a:lnTo>
                <a:lnTo>
                  <a:pt x="1776" y="764"/>
                </a:lnTo>
                <a:lnTo>
                  <a:pt x="1824" y="668"/>
                </a:lnTo>
                <a:lnTo>
                  <a:pt x="1968" y="668"/>
                </a:lnTo>
                <a:lnTo>
                  <a:pt x="2048" y="540"/>
                </a:lnTo>
                <a:lnTo>
                  <a:pt x="1900" y="556"/>
                </a:lnTo>
                <a:lnTo>
                  <a:pt x="1952" y="444"/>
                </a:lnTo>
                <a:lnTo>
                  <a:pt x="1832" y="440"/>
                </a:lnTo>
                <a:lnTo>
                  <a:pt x="1900" y="332"/>
                </a:lnTo>
                <a:lnTo>
                  <a:pt x="1776" y="332"/>
                </a:lnTo>
                <a:lnTo>
                  <a:pt x="1712" y="448"/>
                </a:lnTo>
                <a:lnTo>
                  <a:pt x="1564" y="432"/>
                </a:lnTo>
                <a:lnTo>
                  <a:pt x="1716" y="664"/>
                </a:lnTo>
                <a:lnTo>
                  <a:pt x="1440" y="668"/>
                </a:lnTo>
                <a:lnTo>
                  <a:pt x="1376" y="556"/>
                </a:lnTo>
                <a:lnTo>
                  <a:pt x="1456" y="440"/>
                </a:lnTo>
                <a:lnTo>
                  <a:pt x="1312" y="444"/>
                </a:lnTo>
                <a:lnTo>
                  <a:pt x="1248" y="332"/>
                </a:lnTo>
                <a:lnTo>
                  <a:pt x="1200" y="428"/>
                </a:lnTo>
                <a:lnTo>
                  <a:pt x="1132" y="544"/>
                </a:lnTo>
                <a:lnTo>
                  <a:pt x="720" y="548"/>
                </a:lnTo>
                <a:lnTo>
                  <a:pt x="816" y="668"/>
                </a:lnTo>
                <a:lnTo>
                  <a:pt x="648" y="664"/>
                </a:lnTo>
                <a:lnTo>
                  <a:pt x="596" y="548"/>
                </a:lnTo>
                <a:lnTo>
                  <a:pt x="672" y="444"/>
                </a:lnTo>
                <a:lnTo>
                  <a:pt x="540" y="444"/>
                </a:lnTo>
                <a:lnTo>
                  <a:pt x="588" y="324"/>
                </a:lnTo>
                <a:lnTo>
                  <a:pt x="736" y="336"/>
                </a:lnTo>
                <a:lnTo>
                  <a:pt x="792" y="448"/>
                </a:lnTo>
                <a:lnTo>
                  <a:pt x="932" y="436"/>
                </a:lnTo>
                <a:lnTo>
                  <a:pt x="864" y="332"/>
                </a:lnTo>
                <a:lnTo>
                  <a:pt x="988" y="96"/>
                </a:lnTo>
                <a:lnTo>
                  <a:pt x="1048" y="220"/>
                </a:lnTo>
                <a:lnTo>
                  <a:pt x="1324" y="212"/>
                </a:lnTo>
                <a:lnTo>
                  <a:pt x="1392" y="332"/>
                </a:lnTo>
                <a:lnTo>
                  <a:pt x="1660" y="336"/>
                </a:lnTo>
                <a:lnTo>
                  <a:pt x="1712" y="212"/>
                </a:lnTo>
                <a:lnTo>
                  <a:pt x="1580" y="224"/>
                </a:lnTo>
                <a:lnTo>
                  <a:pt x="1508" y="112"/>
                </a:lnTo>
                <a:lnTo>
                  <a:pt x="1440" y="236"/>
                </a:lnTo>
                <a:lnTo>
                  <a:pt x="1388" y="124"/>
                </a:lnTo>
                <a:lnTo>
                  <a:pt x="1252" y="120"/>
                </a:lnTo>
                <a:lnTo>
                  <a:pt x="1312" y="8"/>
                </a:lnTo>
                <a:lnTo>
                  <a:pt x="1720" y="0"/>
                </a:lnTo>
                <a:lnTo>
                  <a:pt x="1832" y="232"/>
                </a:lnTo>
                <a:lnTo>
                  <a:pt x="1896" y="104"/>
                </a:lnTo>
                <a:lnTo>
                  <a:pt x="2108" y="448"/>
                </a:lnTo>
                <a:lnTo>
                  <a:pt x="2240" y="444"/>
                </a:lnTo>
                <a:lnTo>
                  <a:pt x="2304" y="332"/>
                </a:lnTo>
                <a:lnTo>
                  <a:pt x="2432" y="556"/>
                </a:lnTo>
                <a:lnTo>
                  <a:pt x="2560" y="540"/>
                </a:lnTo>
                <a:lnTo>
                  <a:pt x="2616" y="676"/>
                </a:lnTo>
                <a:lnTo>
                  <a:pt x="2688" y="544"/>
                </a:lnTo>
                <a:lnTo>
                  <a:pt x="2808" y="764"/>
                </a:lnTo>
                <a:lnTo>
                  <a:pt x="2784" y="764"/>
                </a:lnTo>
                <a:lnTo>
                  <a:pt x="2688" y="764"/>
                </a:lnTo>
                <a:lnTo>
                  <a:pt x="2756" y="888"/>
                </a:lnTo>
                <a:cubicBezTo>
                  <a:pt x="2724" y="904"/>
                  <a:pt x="2656" y="884"/>
                  <a:pt x="2620" y="880"/>
                </a:cubicBezTo>
                <a:cubicBezTo>
                  <a:pt x="2592" y="877"/>
                  <a:pt x="2602" y="834"/>
                  <a:pt x="2584" y="812"/>
                </a:cubicBezTo>
                <a:cubicBezTo>
                  <a:pt x="2572" y="797"/>
                  <a:pt x="2563" y="780"/>
                  <a:pt x="2548" y="756"/>
                </a:cubicBezTo>
                <a:lnTo>
                  <a:pt x="2484" y="644"/>
                </a:lnTo>
                <a:lnTo>
                  <a:pt x="2428" y="776"/>
                </a:lnTo>
                <a:lnTo>
                  <a:pt x="2556" y="984"/>
                </a:lnTo>
                <a:lnTo>
                  <a:pt x="2820" y="992"/>
                </a:lnTo>
                <a:lnTo>
                  <a:pt x="2888" y="884"/>
                </a:lnTo>
                <a:lnTo>
                  <a:pt x="3020" y="88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0" y="17524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rund_3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4543560" cy="454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440" y="6629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klein_3" descr=""/>
          <p:cNvPicPr/>
          <p:nvPr/>
        </p:nvPicPr>
        <p:blipFill>
          <a:blip r:embed="rId2"/>
          <a:stretch/>
        </p:blipFill>
        <p:spPr>
          <a:xfrm>
            <a:off x="1219320" y="5105520"/>
            <a:ext cx="5400720" cy="4562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371600" y="5181480"/>
            <a:ext cx="5124600" cy="4419720"/>
          </a:xfrm>
          <a:custGeom>
            <a:avLst/>
            <a:gdLst/>
            <a:ahLst/>
            <a:rect l="l" t="t" r="r" b="b"/>
            <a:pathLst>
              <a:path w="3228" h="2784">
                <a:moveTo>
                  <a:pt x="3" y="0"/>
                </a:moveTo>
                <a:lnTo>
                  <a:pt x="0" y="144"/>
                </a:lnTo>
                <a:lnTo>
                  <a:pt x="147" y="141"/>
                </a:lnTo>
                <a:lnTo>
                  <a:pt x="147" y="240"/>
                </a:lnTo>
                <a:lnTo>
                  <a:pt x="291" y="240"/>
                </a:lnTo>
                <a:lnTo>
                  <a:pt x="291" y="384"/>
                </a:lnTo>
                <a:lnTo>
                  <a:pt x="675" y="384"/>
                </a:lnTo>
                <a:lnTo>
                  <a:pt x="675" y="240"/>
                </a:lnTo>
                <a:lnTo>
                  <a:pt x="819" y="240"/>
                </a:lnTo>
                <a:lnTo>
                  <a:pt x="819" y="144"/>
                </a:lnTo>
                <a:lnTo>
                  <a:pt x="915" y="144"/>
                </a:lnTo>
                <a:lnTo>
                  <a:pt x="915" y="48"/>
                </a:lnTo>
                <a:lnTo>
                  <a:pt x="1347" y="48"/>
                </a:lnTo>
                <a:lnTo>
                  <a:pt x="1347" y="144"/>
                </a:lnTo>
                <a:lnTo>
                  <a:pt x="1475" y="140"/>
                </a:lnTo>
                <a:lnTo>
                  <a:pt x="1476" y="376"/>
                </a:lnTo>
                <a:lnTo>
                  <a:pt x="1476" y="480"/>
                </a:lnTo>
                <a:lnTo>
                  <a:pt x="2019" y="480"/>
                </a:lnTo>
                <a:lnTo>
                  <a:pt x="2019" y="576"/>
                </a:lnTo>
                <a:lnTo>
                  <a:pt x="2163" y="576"/>
                </a:lnTo>
                <a:lnTo>
                  <a:pt x="2163" y="720"/>
                </a:lnTo>
                <a:lnTo>
                  <a:pt x="2547" y="720"/>
                </a:lnTo>
                <a:lnTo>
                  <a:pt x="2547" y="912"/>
                </a:lnTo>
                <a:lnTo>
                  <a:pt x="2691" y="912"/>
                </a:lnTo>
                <a:lnTo>
                  <a:pt x="2691" y="1056"/>
                </a:lnTo>
                <a:lnTo>
                  <a:pt x="2406" y="1056"/>
                </a:lnTo>
                <a:lnTo>
                  <a:pt x="2403" y="1392"/>
                </a:lnTo>
                <a:lnTo>
                  <a:pt x="2259" y="1392"/>
                </a:lnTo>
                <a:lnTo>
                  <a:pt x="2259" y="1632"/>
                </a:lnTo>
                <a:lnTo>
                  <a:pt x="2019" y="1632"/>
                </a:lnTo>
                <a:lnTo>
                  <a:pt x="2020" y="1824"/>
                </a:lnTo>
                <a:lnTo>
                  <a:pt x="2163" y="1824"/>
                </a:lnTo>
                <a:lnTo>
                  <a:pt x="2817" y="1824"/>
                </a:lnTo>
                <a:lnTo>
                  <a:pt x="2817" y="1956"/>
                </a:lnTo>
                <a:lnTo>
                  <a:pt x="3081" y="1956"/>
                </a:lnTo>
                <a:lnTo>
                  <a:pt x="3081" y="2082"/>
                </a:lnTo>
                <a:lnTo>
                  <a:pt x="3228" y="2082"/>
                </a:lnTo>
                <a:lnTo>
                  <a:pt x="3228" y="2292"/>
                </a:lnTo>
                <a:lnTo>
                  <a:pt x="3087" y="2304"/>
                </a:lnTo>
                <a:lnTo>
                  <a:pt x="3087" y="2373"/>
                </a:lnTo>
                <a:lnTo>
                  <a:pt x="3087" y="2439"/>
                </a:lnTo>
                <a:lnTo>
                  <a:pt x="3081" y="2520"/>
                </a:lnTo>
                <a:lnTo>
                  <a:pt x="3129" y="2523"/>
                </a:lnTo>
                <a:lnTo>
                  <a:pt x="3219" y="2523"/>
                </a:lnTo>
                <a:lnTo>
                  <a:pt x="3219" y="2646"/>
                </a:lnTo>
                <a:lnTo>
                  <a:pt x="3219" y="2784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022400"/>
            <a:ext cx="2743200" cy="3251160"/>
          </a:xfrm>
          <a:custGeom>
            <a:avLst/>
            <a:gdLst/>
            <a:ahLst/>
            <a:rect l="l" t="t" r="r" b="b"/>
            <a:pathLst>
              <a:path w="1728" h="2048">
                <a:moveTo>
                  <a:pt x="1728" y="1756"/>
                </a:moveTo>
                <a:lnTo>
                  <a:pt x="1536" y="1612"/>
                </a:lnTo>
                <a:lnTo>
                  <a:pt x="1440" y="1756"/>
                </a:lnTo>
                <a:lnTo>
                  <a:pt x="1276" y="1668"/>
                </a:lnTo>
                <a:lnTo>
                  <a:pt x="1124" y="1792"/>
                </a:lnTo>
                <a:lnTo>
                  <a:pt x="1328" y="2008"/>
                </a:lnTo>
                <a:lnTo>
                  <a:pt x="1288" y="2048"/>
                </a:lnTo>
                <a:lnTo>
                  <a:pt x="1204" y="1976"/>
                </a:lnTo>
                <a:lnTo>
                  <a:pt x="1152" y="1996"/>
                </a:lnTo>
                <a:lnTo>
                  <a:pt x="988" y="1748"/>
                </a:lnTo>
                <a:lnTo>
                  <a:pt x="1200" y="1608"/>
                </a:lnTo>
                <a:lnTo>
                  <a:pt x="1104" y="1516"/>
                </a:lnTo>
                <a:lnTo>
                  <a:pt x="980" y="1644"/>
                </a:lnTo>
                <a:lnTo>
                  <a:pt x="920" y="1456"/>
                </a:lnTo>
                <a:lnTo>
                  <a:pt x="1056" y="1276"/>
                </a:lnTo>
                <a:lnTo>
                  <a:pt x="1152" y="1324"/>
                </a:lnTo>
                <a:lnTo>
                  <a:pt x="1080" y="1416"/>
                </a:lnTo>
                <a:lnTo>
                  <a:pt x="1248" y="1516"/>
                </a:lnTo>
                <a:lnTo>
                  <a:pt x="1296" y="1420"/>
                </a:lnTo>
                <a:lnTo>
                  <a:pt x="1212" y="1396"/>
                </a:lnTo>
                <a:lnTo>
                  <a:pt x="1292" y="1200"/>
                </a:lnTo>
                <a:lnTo>
                  <a:pt x="1200" y="1140"/>
                </a:lnTo>
                <a:lnTo>
                  <a:pt x="1216" y="1016"/>
                </a:lnTo>
                <a:lnTo>
                  <a:pt x="1424" y="1016"/>
                </a:lnTo>
                <a:lnTo>
                  <a:pt x="1420" y="856"/>
                </a:lnTo>
                <a:lnTo>
                  <a:pt x="1212" y="876"/>
                </a:lnTo>
                <a:lnTo>
                  <a:pt x="1148" y="664"/>
                </a:lnTo>
                <a:lnTo>
                  <a:pt x="1056" y="508"/>
                </a:lnTo>
                <a:lnTo>
                  <a:pt x="1104" y="460"/>
                </a:lnTo>
                <a:lnTo>
                  <a:pt x="1052" y="396"/>
                </a:lnTo>
                <a:lnTo>
                  <a:pt x="988" y="456"/>
                </a:lnTo>
                <a:lnTo>
                  <a:pt x="764" y="340"/>
                </a:lnTo>
                <a:lnTo>
                  <a:pt x="788" y="224"/>
                </a:lnTo>
                <a:lnTo>
                  <a:pt x="636" y="200"/>
                </a:lnTo>
                <a:lnTo>
                  <a:pt x="648" y="72"/>
                </a:lnTo>
                <a:lnTo>
                  <a:pt x="560" y="84"/>
                </a:lnTo>
                <a:lnTo>
                  <a:pt x="544" y="196"/>
                </a:lnTo>
                <a:lnTo>
                  <a:pt x="268" y="232"/>
                </a:lnTo>
                <a:lnTo>
                  <a:pt x="240" y="124"/>
                </a:lnTo>
                <a:lnTo>
                  <a:pt x="308" y="100"/>
                </a:lnTo>
                <a:lnTo>
                  <a:pt x="288" y="0"/>
                </a:lnTo>
                <a:lnTo>
                  <a:pt x="0" y="124"/>
                </a:lnTo>
                <a:lnTo>
                  <a:pt x="56" y="212"/>
                </a:lnTo>
                <a:lnTo>
                  <a:pt x="132" y="164"/>
                </a:lnTo>
                <a:lnTo>
                  <a:pt x="292" y="524"/>
                </a:lnTo>
                <a:lnTo>
                  <a:pt x="368" y="504"/>
                </a:lnTo>
                <a:lnTo>
                  <a:pt x="348" y="316"/>
                </a:lnTo>
                <a:lnTo>
                  <a:pt x="568" y="292"/>
                </a:lnTo>
                <a:lnTo>
                  <a:pt x="592" y="384"/>
                </a:lnTo>
                <a:lnTo>
                  <a:pt x="708" y="416"/>
                </a:lnTo>
                <a:lnTo>
                  <a:pt x="672" y="508"/>
                </a:lnTo>
                <a:lnTo>
                  <a:pt x="580" y="488"/>
                </a:lnTo>
                <a:lnTo>
                  <a:pt x="560" y="584"/>
                </a:lnTo>
                <a:lnTo>
                  <a:pt x="468" y="596"/>
                </a:lnTo>
                <a:lnTo>
                  <a:pt x="480" y="796"/>
                </a:lnTo>
                <a:lnTo>
                  <a:pt x="616" y="804"/>
                </a:lnTo>
                <a:lnTo>
                  <a:pt x="720" y="940"/>
                </a:lnTo>
                <a:lnTo>
                  <a:pt x="712" y="1064"/>
                </a:lnTo>
                <a:lnTo>
                  <a:pt x="652" y="1044"/>
                </a:lnTo>
                <a:lnTo>
                  <a:pt x="528" y="1084"/>
                </a:lnTo>
                <a:lnTo>
                  <a:pt x="528" y="98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8:45:56Z</dcterms:created>
  <dc:creator>Testuser</dc:creator>
  <dc:description/>
  <dc:language>en-US</dc:language>
  <cp:lastModifiedBy>Testuser</cp:lastModifiedBy>
  <dcterms:modified xsi:type="dcterms:W3CDTF">2002-10-20T18:28:33Z</dcterms:modified>
  <cp:revision>19</cp:revision>
  <dc:subject/>
  <dc:title>Kein Folientitel</dc:title>
</cp:coreProperties>
</file>