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6858000" cy="9907588"/>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86716-55E2-4BB7-80C4-4F53A8084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4B1AC-C46F-4874-A420-B31211A60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C9F31-3B00-4D06-A470-2669FB360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58224-27E4-4FD4-A864-66AD99DE3B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B8A9F-00BD-45FB-A5F5-75FCE985A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31248-662B-4D45-8306-7006E1871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AC5BA-8102-466F-A4D4-D2CE4DCDC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44994-7DCE-46A8-A31A-9BEBAAFFB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35B5D-6DA2-4FF2-8DEC-F9EBE8C21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E5695-1189-4002-84AF-1C9BD947A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A3A3D-8364-4FC8-B5D5-A643C91D1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0E7A4-7CE7-4B6D-9FE7-11ABDCEF5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7EA7-4FD0-48CB-AE79-A0DEFEC84A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304920"/>
            <a:ext cx="6172200" cy="95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Times New Roman"/>
              </a:rPr>
              <a:t>D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Araber vermachte seinen drei Söhnen siebzehn Kamele.  Diese sollten sie folgendermaßen unter sich aufteilen:  der Älteste sollte die Hälfte bekommen, der zweite Sohn ein Drittel und der Jüngste ein Neuntel.  Wie konnten sie die Kamele aufteil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Times New Roman"/>
              </a:rPr>
              <a:t>D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in Junge kommt vom Spielen nach Hause und seine Mutter fragt ihn was er den so alles gesehen hat. Der Junge antwortet, er habe einige Flugzeuge am Himmel gesehen. Die Mutter möchte jedoch die genaue Anzahl der Flugzeuge wissen. Darauf antwortete der Junge: "Also ein Flugzeug flog vor zwei Flugzeugen, ein Flugzeug flog hinter zwei Flugzeugen und ein Flugzeug flog zwischen zwei Flugzeug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 viele Flugzeuge sah der Junge am Himm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Times New Roman"/>
              </a:rPr>
              <a:t>D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uf einer Wiese wachsen 22 Blumen. Rote, blaue und gelbe. Ein Junge kommt vorbei und pflückt drei Blumen. Dabei stellt er fest, daß mindestens eine davon rot sein muß!</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 viele rote, blaue und gelbe Blumen wachsen auf der Wie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Times New Roman"/>
              </a:rPr>
              <a:t>D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m Fuß einer Mauer von drei Metern Höhe saß eine Schnecke und begann, senkrecht die Mauer hochzukriechen. Am Tag schaffte sie 70 cm, rutschte aber in der Nacht wieder 30 cm hinunt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enn die Schnecke in diesem Tempo weiter klettert, am wievielten Tag hat sie den oberen Rand der Mauer erreich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Times New Roman"/>
              </a:rPr>
              <a:t>D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u"/>
              </a:rPr>
              <a:t>Ein Bauer kommt mit seinem Wolf, Schaf und Kohlkopf an einen breiten Fluß. Mit dem Boot kann er jeweils nur einen weiteren Gegenstand gleichzeitig über den Fluß transportieren.  Läßt 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u"/>
              </a:rPr>
              <a:t>den Wolf und das Schaf unbeaufsichtigt zurück, so verschlingt der Wolf das Schaf.  Das Schaf wiederum fällt über den Kohlkopf her, sobald es ohne Aufsicht ist.  Wie bekommt der Bauer alle drei Gegenstände wohlbehalten auf die andere Sei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Times New Roman"/>
              </a:rPr>
              <a:t>D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u"/>
              </a:rPr>
              <a:t>Die Zigarettenstummel Opa Fritz ist immer sehr sparsam.  Er pflegt immer aus den Stummeln von 3 Zigaretten eine Neue zu drehen. Als ich ihn das letzte Mal gesehen habe, hatte er 9 Zigaretten zur Verfügu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u"/>
              </a:rPr>
              <a:t>Wieviele Zigaretten kann er also bei seinem Verfahren rauch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685800"/>
            <a:ext cx="6172200" cy="538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Times New Roman"/>
              </a:rPr>
              <a:t>D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u"/>
              </a:rPr>
              <a:t>Ein Bauer geht mit 100 Talern in der Tasche auf den Markt.  Mit diesen 100 Talern möchte er 100 Tiere kaufen.  Die Preise sind die folgen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u"/>
              </a:rPr>
              <a:t>1 Hund kostet 15 Taler 1 Katze kostet 1 Taler 4 Mäuse kosten 1 Tal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u"/>
              </a:rPr>
              <a:t>Der Bauer kauft jedes Tier mindestens einmal und gibt seine ganzen Taler aus. Wieviel Hunde, Katzen und Muse kauft 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Times New Roman"/>
              </a:rPr>
              <a:t>D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u"/>
              </a:rPr>
              <a:t>Drei Jäger gingen auf die Jagd.  Da passierte ihnen ein Mißgeschick.  Als sie einen Bach durchwateten, ließen sie ihre Patronentaschen naß werden. Ein Teil der Patronen wurde dadurch unbrauchbar.  Sie verteilten daher die noch brauchbaren Patronen unter sich zu gleichen Teilen. Nachdem jeder Jäger vier Schuß abgegeben hatte, besaßen sie zusammen noch soviel Patronen, wie nach der Verteilung jeder einzelne gehabt hatte.  Wieviel brauchbare Patronen verteilten sie untereinand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Times New Roman"/>
              </a:rPr>
              <a:t>D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u"/>
              </a:rPr>
              <a:t>Bekanntlich führen alle Wege nach Rom. Doch nur ein Weg führt von A nach B.  Diesen Weg gilt es zu finden. Gestartet wird von Feld A.  Man bewegt sich immer horizontal oder vertikal in eine Richtung bis man auf einen Pfeil oder ein Karo trifft.  Bei einem Pfeil darf man nur in Pfeilrichtung weitergehen.  Bei einem Karo hingegen darf man die Richtung frei bestimm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u"/>
              </a:rPr>
              <a:t>Wie kommt man nun von A nach B?</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43" name="ROM" descr=""/>
          <p:cNvPicPr/>
          <p:nvPr/>
        </p:nvPicPr>
        <p:blipFill>
          <a:blip r:embed="rId1"/>
          <a:stretch/>
        </p:blipFill>
        <p:spPr>
          <a:xfrm>
            <a:off x="1752480" y="6019920"/>
            <a:ext cx="304812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felderben" descr=""/>
          <p:cNvPicPr/>
          <p:nvPr/>
        </p:nvPicPr>
        <p:blipFill>
          <a:blip r:embed="rId1"/>
          <a:stretch/>
        </p:blipFill>
        <p:spPr>
          <a:xfrm>
            <a:off x="2133720" y="6934320"/>
            <a:ext cx="2381040" cy="1952640"/>
          </a:xfrm>
          <a:prstGeom prst="rect">
            <a:avLst/>
          </a:prstGeom>
          <a:ln w="0">
            <a:noFill/>
          </a:ln>
        </p:spPr>
      </p:pic>
      <p:pic>
        <p:nvPicPr>
          <p:cNvPr id="45" name="vierhuete" descr=""/>
          <p:cNvPicPr/>
          <p:nvPr/>
        </p:nvPicPr>
        <p:blipFill>
          <a:blip r:embed="rId2"/>
          <a:stretch/>
        </p:blipFill>
        <p:spPr>
          <a:xfrm>
            <a:off x="1447920" y="2438280"/>
            <a:ext cx="3809880" cy="1704960"/>
          </a:xfrm>
          <a:prstGeom prst="rect">
            <a:avLst/>
          </a:prstGeom>
          <a:ln w="0">
            <a:noFill/>
          </a:ln>
        </p:spPr>
      </p:pic>
      <p:sp>
        <p:nvSpPr>
          <p:cNvPr id="46" name=""/>
          <p:cNvSpPr/>
          <p:nvPr/>
        </p:nvSpPr>
        <p:spPr>
          <a:xfrm>
            <a:off x="609480" y="228600"/>
            <a:ext cx="5943600" cy="24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1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u"/>
              </a:rPr>
              <a:t>4 Personen sind bis zum Kopf in der Erde vergraben und können sich nicht bewegen (d.  h.  auch den Kopf nicht drehen).  Sie wissen, daß sie alle Hüte tragen, insgesamt 4.  Weiterhin wissen sie, daß genau 2 davon schwarz und 2 weiß sind. Sie wissen aber nicht, wer wirklich welche Farbe auf dem Kopf hat.  Zwischen A und B ist eine Wand, so daß sich A und B nicht sehen können. Die anderen Personen sehen jeweils alle ihre Vordermänner, und damit dessen Hüte (d.h.  D sieht C und B, C sieht B und B sieht leider niemanden, wegen der Wand).  Außerdem dürfen sich die Personen nicht unterhalt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u"/>
              </a:rPr>
              <a:t>Die Aufgabe:  Eine der Personen soll seine eigene Hutfarbe nennen.  Schafft er dies, so sind alle Personen frei, schafft er es nicht, so werden alle Personen sterben.</a:t>
            </a:r>
            <a:endParaRPr b="0" lang="en-US" sz="1200" spc="-1" strike="noStrike">
              <a:solidFill>
                <a:srgbClr val="000000"/>
              </a:solidFill>
              <a:latin typeface="Times New Roman"/>
            </a:endParaRPr>
          </a:p>
        </p:txBody>
      </p:sp>
      <p:sp>
        <p:nvSpPr>
          <p:cNvPr id="47" name=""/>
          <p:cNvSpPr/>
          <p:nvPr/>
        </p:nvSpPr>
        <p:spPr>
          <a:xfrm>
            <a:off x="609480" y="5791320"/>
            <a:ext cx="6019920" cy="13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Times New Roman"/>
              </a:rPr>
              <a:t>D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u"/>
              </a:rPr>
              <a:t>Die sechs Kinder des Pharaos erben das Reich ihres Vaters.  Der Pharao hat in seinem letzten Willen festgelegt, daß jedes Kind ein deckungsgleiches Grundstück erhalten so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u"/>
              </a:rPr>
              <a:t>Wie ist nun das Reich aufzuteilen, damit dem letzten Willen des Pharaos entsprochen wir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457200"/>
            <a:ext cx="5943600" cy="76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1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u"/>
              </a:rPr>
              <a:t>In die 9 Kästchen sollen die Zahlen 1 bis 9 eingetragen werden, so daß die Summe jeder Reihe, jeder Spalte und jeder Diagonale immer gleich ist.</a:t>
            </a:r>
            <a:endParaRPr b="0" lang="en-US" sz="1200" spc="-1" strike="noStrike">
              <a:solidFill>
                <a:srgbClr val="000000"/>
              </a:solidFill>
              <a:latin typeface="Times New Roman"/>
            </a:endParaRPr>
          </a:p>
        </p:txBody>
      </p:sp>
      <p:grpSp>
        <p:nvGrpSpPr>
          <p:cNvPr id="49" name=""/>
          <p:cNvGrpSpPr/>
          <p:nvPr/>
        </p:nvGrpSpPr>
        <p:grpSpPr>
          <a:xfrm>
            <a:off x="2743200" y="1600200"/>
            <a:ext cx="1143000" cy="1143000"/>
            <a:chOff x="2743200" y="1600200"/>
            <a:chExt cx="1143000" cy="1143000"/>
          </a:xfrm>
        </p:grpSpPr>
        <p:sp>
          <p:nvSpPr>
            <p:cNvPr id="50" name=""/>
            <p:cNvSpPr/>
            <p:nvPr/>
          </p:nvSpPr>
          <p:spPr>
            <a:xfrm>
              <a:off x="2743200" y="160020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600200"/>
              <a:ext cx="381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3505320" y="160020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2743200" y="19810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124080" y="1981080"/>
              <a:ext cx="38124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505320" y="1981080"/>
              <a:ext cx="380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743200" y="236232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2362320"/>
              <a:ext cx="3812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505320" y="2362320"/>
              <a:ext cx="3808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rot="19093800">
            <a:off x="915840" y="2590920"/>
            <a:ext cx="5942160" cy="419256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Lösunge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0"/>
            <a:ext cx="6629400" cy="9266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e liehen sich ein Kamel aus und hatten nun 18.  Der erste nahm die Hälfte, also neun, der zweite ein Drittel, das macht sechs, der Jüngste ein Neuntel, das sind zwei.  Das macht dann 9 + 6 + 2 = 17.  Somit konnten sie das geliehene Kamel wieder zurückgeben.  Der Trick ist, daß ein Halbes plus ein Drittel plus ein Neuntel nur siebzehn Achtzehntel macht und nicht ein Ganzes.</a:t>
            </a: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 waren 3 Flugzeuge</a:t>
            </a: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rote, eine blaue und eine gelbe Blume.</a:t>
            </a: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 7. Tag.</a:t>
            </a: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u"/>
              </a:rPr>
              <a:t>Der Bauer nimmt als erstes das Schaf mit hinüber.  Er fährt sodann leer zurück und nimmt dann den Wolf mit hinüber.  Auf der Rückfahrt nimmt er das Schaf wieder mit zurück und bringt den Kohlkopf auf die andere Seite.  Er fährt dann wieder leer zurück und setzt zuletzt mit dem Schaf über.</a:t>
            </a: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6:</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u"/>
              </a:rPr>
              <a:t>Opa Fritz kann noch 13 Zigaretten rauchen.  Aus den neun Zigaretten kann er drei Neue drehen.  Wenn er diese wiederum geraucht hat, langt es ihm genau für eine weitere Zigarette.</a:t>
            </a: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u"/>
              </a:rPr>
              <a:t>Der Bauer kauft 3 Hunde, 41 Katzen und 56 Mäuse.</a:t>
            </a:r>
            <a:r>
              <a:rPr b="1"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u"/>
              </a:rPr>
              <a:t>Nach der Verteilung der Patronen verbrauchten die Jäger zu dritt 12 Stück.  Danach verblieben allen zusammen soviel, wie jeder nach der Verteilung gehabt hatte, das heißt, die Gesamtzahl der Patronen verringerte sich auf ein Drittel.  Mit anderen Worten hatten die Jäger zwei Drittel verbraucht und ein Drittel war übrig geblieben.  Zwei Drittel waren 12 Stück, ein Drittel sind also 6 Stück.  Folglich blieben 6 Patronen übrig.  Das ist auch die Anzahl der Patronen, die jedem bei der Verteilung zugefallen war. Folglich hatten sie vor der Verteilung noch 18 brauchbare Patron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15228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9:</a:t>
            </a:r>
            <a:endParaRPr b="0" lang="en-US" sz="2000" spc="-1" strike="noStrike">
              <a:solidFill>
                <a:srgbClr val="000000"/>
              </a:solidFill>
              <a:latin typeface="Times New Roman"/>
            </a:endParaRPr>
          </a:p>
        </p:txBody>
      </p:sp>
      <p:pic>
        <p:nvPicPr>
          <p:cNvPr id="62" name="felderben-loesung" descr=""/>
          <p:cNvPicPr/>
          <p:nvPr/>
        </p:nvPicPr>
        <p:blipFill>
          <a:blip r:embed="rId1"/>
          <a:stretch/>
        </p:blipFill>
        <p:spPr>
          <a:xfrm>
            <a:off x="1905120" y="4952880"/>
            <a:ext cx="2381040" cy="1952640"/>
          </a:xfrm>
          <a:prstGeom prst="rect">
            <a:avLst/>
          </a:prstGeom>
          <a:ln w="0">
            <a:noFill/>
          </a:ln>
        </p:spPr>
      </p:pic>
      <p:pic>
        <p:nvPicPr>
          <p:cNvPr id="63" name="rom-loesung" descr=""/>
          <p:cNvPicPr/>
          <p:nvPr/>
        </p:nvPicPr>
        <p:blipFill>
          <a:blip r:embed="rId2"/>
          <a:stretch/>
        </p:blipFill>
        <p:spPr>
          <a:xfrm>
            <a:off x="1905120" y="380880"/>
            <a:ext cx="2095560" cy="2095560"/>
          </a:xfrm>
          <a:prstGeom prst="rect">
            <a:avLst/>
          </a:prstGeom>
          <a:ln w="0">
            <a:noFill/>
          </a:ln>
        </p:spPr>
      </p:pic>
      <p:sp>
        <p:nvSpPr>
          <p:cNvPr id="64" name=""/>
          <p:cNvSpPr/>
          <p:nvPr/>
        </p:nvSpPr>
        <p:spPr>
          <a:xfrm>
            <a:off x="228600" y="3200400"/>
            <a:ext cx="6629400" cy="1957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Times New Roman"/>
              </a:rPr>
              <a:t>D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u"/>
              </a:rPr>
              <a:t>Sieht D zwei gleich farbige Hüte, so weiß er, daß er einen anders farbigen Hut aufhat und sagt dies.  Sieht er hingegen zwei unterschiedlich farbige Hüte, so schweigt er, weil er nichts über seine Hutfarbe aussagen kann. Durch das Schweigen kann C entnehmen, daß er und B zwei unterschiedlich farbige Hüte aufhaben.  Sein Hut hat dann die Farbe die Bs Hut nicht hat.  Er sagt dies und sie sind alle gerettet.</a:t>
            </a:r>
            <a:endParaRPr b="0" lang="en-US" sz="1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Times New Roman"/>
              </a:rPr>
              <a:t>D11:</a:t>
            </a:r>
            <a:endParaRPr b="0" lang="en-US" sz="2000" spc="-1" strike="noStrike">
              <a:solidFill>
                <a:srgbClr val="000000"/>
              </a:solidFill>
              <a:latin typeface="Times New Roman"/>
            </a:endParaRPr>
          </a:p>
        </p:txBody>
      </p:sp>
      <p:sp>
        <p:nvSpPr>
          <p:cNvPr id="65" name=""/>
          <p:cNvSpPr/>
          <p:nvPr/>
        </p:nvSpPr>
        <p:spPr>
          <a:xfrm>
            <a:off x="228600" y="731520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D12:</a:t>
            </a:r>
            <a:endParaRPr b="0" lang="en-US" sz="2000" spc="-1" strike="noStrike">
              <a:solidFill>
                <a:srgbClr val="000000"/>
              </a:solidFill>
              <a:latin typeface="Times New Roman"/>
            </a:endParaRPr>
          </a:p>
        </p:txBody>
      </p:sp>
      <p:grpSp>
        <p:nvGrpSpPr>
          <p:cNvPr id="66" name=""/>
          <p:cNvGrpSpPr/>
          <p:nvPr/>
        </p:nvGrpSpPr>
        <p:grpSpPr>
          <a:xfrm>
            <a:off x="2743200" y="7848720"/>
            <a:ext cx="1143000" cy="1143000"/>
            <a:chOff x="2743200" y="7848720"/>
            <a:chExt cx="1143000" cy="1143000"/>
          </a:xfrm>
        </p:grpSpPr>
        <p:sp>
          <p:nvSpPr>
            <p:cNvPr id="67" name=""/>
            <p:cNvSpPr/>
            <p:nvPr/>
          </p:nvSpPr>
          <p:spPr>
            <a:xfrm>
              <a:off x="2743200" y="7848720"/>
              <a:ext cx="380880" cy="38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68" name=""/>
            <p:cNvSpPr/>
            <p:nvPr/>
          </p:nvSpPr>
          <p:spPr>
            <a:xfrm>
              <a:off x="3124080" y="7848720"/>
              <a:ext cx="381240" cy="38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0" lang="en-US" sz="2000" spc="-1" strike="noStrike">
                <a:solidFill>
                  <a:srgbClr val="000000"/>
                </a:solidFill>
                <a:latin typeface="Times New Roman"/>
              </a:endParaRPr>
            </a:p>
          </p:txBody>
        </p:sp>
        <p:sp>
          <p:nvSpPr>
            <p:cNvPr id="69" name=""/>
            <p:cNvSpPr/>
            <p:nvPr/>
          </p:nvSpPr>
          <p:spPr>
            <a:xfrm>
              <a:off x="3505320" y="7848720"/>
              <a:ext cx="380880" cy="381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70" name=""/>
            <p:cNvSpPr/>
            <p:nvPr/>
          </p:nvSpPr>
          <p:spPr>
            <a:xfrm>
              <a:off x="2743200" y="8229960"/>
              <a:ext cx="38088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endParaRPr b="0" lang="en-US" sz="2000" spc="-1" strike="noStrike">
                <a:solidFill>
                  <a:srgbClr val="000000"/>
                </a:solidFill>
                <a:latin typeface="Times New Roman"/>
              </a:endParaRPr>
            </a:p>
          </p:txBody>
        </p:sp>
        <p:sp>
          <p:nvSpPr>
            <p:cNvPr id="71" name=""/>
            <p:cNvSpPr/>
            <p:nvPr/>
          </p:nvSpPr>
          <p:spPr>
            <a:xfrm>
              <a:off x="3124080" y="8229960"/>
              <a:ext cx="38124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72" name=""/>
            <p:cNvSpPr/>
            <p:nvPr/>
          </p:nvSpPr>
          <p:spPr>
            <a:xfrm>
              <a:off x="3505320" y="8229960"/>
              <a:ext cx="38088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73" name=""/>
            <p:cNvSpPr/>
            <p:nvPr/>
          </p:nvSpPr>
          <p:spPr>
            <a:xfrm>
              <a:off x="2743200" y="8610840"/>
              <a:ext cx="38088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0" lang="en-US" sz="2000" spc="-1" strike="noStrike">
                <a:solidFill>
                  <a:srgbClr val="000000"/>
                </a:solidFill>
                <a:latin typeface="Times New Roman"/>
              </a:endParaRPr>
            </a:p>
          </p:txBody>
        </p:sp>
        <p:sp>
          <p:nvSpPr>
            <p:cNvPr id="74" name=""/>
            <p:cNvSpPr/>
            <p:nvPr/>
          </p:nvSpPr>
          <p:spPr>
            <a:xfrm>
              <a:off x="3124080" y="8610840"/>
              <a:ext cx="38124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75" name=""/>
            <p:cNvSpPr/>
            <p:nvPr/>
          </p:nvSpPr>
          <p:spPr>
            <a:xfrm>
              <a:off x="3505320" y="8610840"/>
              <a:ext cx="38088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3T18:37:30Z</dcterms:created>
  <dc:creator>Testuser</dc:creator>
  <dc:description/>
  <dc:language>en-US</dc:language>
  <cp:lastModifiedBy>ls21hcf</cp:lastModifiedBy>
  <cp:lastPrinted>2002-11-07T13:03:49Z</cp:lastPrinted>
  <dcterms:modified xsi:type="dcterms:W3CDTF">2002-11-07T13:06:55Z</dcterms:modified>
  <cp:revision>7</cp:revision>
  <dc:subject/>
  <dc:title>Kein Folientitel</dc:title>
</cp:coreProperties>
</file>