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600-298A-48A2-8CE4-1250EC06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C0C7-7B39-4CEC-8104-A5C1A813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7E64-7A86-49FE-B1DF-211C1F77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76F-B932-4AD9-8A69-A6AF8BB3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71F-3E16-4822-BD1C-B413018A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2E4-29D9-4D24-91E0-62F67368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D87B-A4C9-4D9C-8665-97A1003C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DF2-1338-43B3-BCD8-2DA38639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D83-CEAC-4BBC-AAEE-15440D85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DAF-1271-458F-BEDE-697FCE70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783-2F4F-4AB5-B862-A03A51AD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915-0479-4452-B24E-7AB485F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0350-3C5E-4865-8DCE-2380F9F3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288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2362320"/>
            <a:ext cx="2158920" cy="215892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2362320"/>
            <a:ext cx="2158920" cy="215892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47644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2968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038480" y="3808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7543800" y="3808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örtersu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ilder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ilder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H="1">
            <a:off x="2437920" y="3429000"/>
            <a:ext cx="586764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391520" y="4267080"/>
            <a:ext cx="1752480" cy="1905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952880" y="4038480"/>
            <a:ext cx="3657600" cy="2133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i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7924680" y="1689120"/>
            <a:ext cx="3473640" cy="3473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47644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2968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47644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2968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613404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Zi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495680"/>
            <a:ext cx="914400" cy="1676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276720"/>
            <a:ext cx="5562720" cy="2895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2480" y="3962520"/>
            <a:ext cx="3200400" cy="2209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-1447920" y="1689120"/>
            <a:ext cx="3473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95288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2362320"/>
            <a:ext cx="2158920" cy="215892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2362320"/>
            <a:ext cx="2159280" cy="215892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p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247644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29680" y="0"/>
            <a:ext cx="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362320" y="3808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867280" y="380880"/>
            <a:ext cx="0" cy="198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athe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atheräts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byrin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byrint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nk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6448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3733920"/>
            <a:ext cx="12952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62720" y="495288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86400" y="2438280"/>
            <a:ext cx="13716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80880"/>
            <a:ext cx="7467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 rot="5400000">
            <a:off x="6057720" y="262872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Denkspor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7644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296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0"/>
            <a:ext cx="0" cy="6858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91440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864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98640" y="487368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9880" y="15652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4213080"/>
            <a:ext cx="1170000" cy="107964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2889360"/>
            <a:ext cx="1170000" cy="1079280"/>
          </a:xfrm>
          <a:prstGeom prst="ellipse">
            <a:avLst/>
          </a:prstGeom>
          <a:solidFill>
            <a:srgbClr val="ffffff"/>
          </a:solidFill>
          <a:ln w="139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380880"/>
            <a:ext cx="7467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562720" y="3733920"/>
            <a:ext cx="13716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123720" y="4876920"/>
            <a:ext cx="12193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124080" y="2438280"/>
            <a:ext cx="13716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 rot="16200000">
            <a:off x="-1942920" y="270468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örtersu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8:29:35Z</dcterms:created>
  <dc:creator>Testuser</dc:creator>
  <dc:description/>
  <dc:language>en-US</dc:language>
  <cp:lastModifiedBy>Testuser</cp:lastModifiedBy>
  <dcterms:modified xsi:type="dcterms:W3CDTF">2003-02-06T20:58:28Z</dcterms:modified>
  <cp:revision>6</cp:revision>
  <dc:subject/>
  <dc:title>Kein Folientitel</dc:title>
</cp:coreProperties>
</file>