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907588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38E-BA01-4EDB-9D0E-43A87C35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545-4670-46C6-B028-E5CD7515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1F59-799C-4846-8FCA-2A6CE57A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898A-7675-42A7-9036-D62EC398F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7AC-B62D-4C4B-9F6D-33665AF6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6F7-E913-41E3-B2E3-A89CBA09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C74-74B5-4836-B671-C07576B7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0992-412E-4757-B824-78AB6125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14C-AC6C-429E-BEE3-2ED28CD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074-F71D-4466-82BC-7336ECA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AC5C-808C-43DE-8607-42B0CBB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90F-30B9-4F90-B553-FF56932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4394-DBFD-4EDE-94FE-E3D95788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6172200" cy="86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Doppelt soviel + die Hälfte + ein Viertel + 1 =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Von den 21 Ziffern sollen 11 gestrichen werden, so daß die Summe aller übrig gebliebenen 62 ergib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3 3 3 3 3 3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5 5 5 5 5 5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8 8 8 8 8 8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Finden Sie die Gesetzmäßigkeit in der Anordnung der Zahlen jeder Reihe heraus und ergänzen Sie um jeweils zwei Zah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4 9 16 25 36 .  .  .  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5 24 22 21 19 18 .  .  .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Finden Sie die Gesetzmäßigkeit in der Anordnung der Zahlen jeder Reihe heraus und ergänzen Sie um jeweils zwei Zahl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1 18 16 13 11 8 .  .  .  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2 14 13 15 14 16 .  .  .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Finden Sie die Gesetzmäßigkeit in der Anordnung der Zahlen jeder Reihe heraus und ergänzen Sie um jeweils zwei Zahl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60 66 64 16 22 20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0  3  8  15  24  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Flasche und Korken kosten zusammen 1,10 DM. Die Flasche kostet 1 DM mehr als der Korken. Wieviel kostet der Kork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8600" y="304920"/>
            <a:ext cx="6172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 erste Reihe jeder Aufgabe zeigt drei Bilder nebeneinander, die sich nach einem logischen System aufeinander beziehen. Finden Sie das fehlende Bild aus jeweils vier angebotenen Lösungsvorschlägen hera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952880"/>
            <a:ext cx="6172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tzen Sie zwischen die Ziffern der Zahl 987654321 so viele Plus-Zeichen, damit als Summe 99 entsteht. (Es sind zwei Lösungen möglich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Finden Sie die Gesetzmäßigkeit in der Anordnung jeder Reihe heraus und ergänzen Sie um jeweils zwei Zahlen (Zeich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3  5  7  11  17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A  F  K  P 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3  6  18  21 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4  6  7  10  12  .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Finden Sie die Gesetzmäßigkeit in der Anordnung jeder Reihe heraus und ergänzen Sie um jeweils zwei Zah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99  91  84  78  73 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  3  5  9  17 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2  3  5  8  13  21 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9  2  8  3  7  4  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219320"/>
          <a:ext cx="6745320" cy="323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674532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304920"/>
            <a:ext cx="617220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Die Zahl 45 soll in vier Teile geteilt werden, so daß man ein und dieselbe Zahl erhält, wenn man zum ersten Teil 2 addiert, vom zweiten Teil 2 subtrahiert, den dritten Teil mit 2 multipliziert und den vierten Teil mit 2 dividi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Zahl 8638 soll in vier Teilsummen zerlegt werden. Diese dürfen aber nur mit Hilfe einer Ziffer gebildet werde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19093800">
            <a:off x="915840" y="2590920"/>
            <a:ext cx="5942160" cy="419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ös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609480"/>
            <a:ext cx="6629400" cy="87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3+3+3+5+8+8+8+8+8+8=62 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5+5+5+5+5+5+8+8+8+8=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4 9 16 25 36 49 6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5 24 22 21 19 18 16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4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1 18 16 13 11 8 6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2 14 13 15 14 16 15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5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60 66 64 16 22 20 5    (plus 6, minus 2, geteilt durch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0  3  8  15  24  35  48  (+3;+5;+7;+9;+11;+1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6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Korken kostet 5 Pfenn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7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;Times New Roman"/>
              </a:rPr>
              <a:t>1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;Times New Roman"/>
              </a:rPr>
              <a:t>2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;Times New Roman"/>
              </a:rPr>
              <a:t>3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;Times New Roman"/>
              </a:rPr>
              <a:t>4d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8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9 + 8 + 7 + 65 + 4 + 3 + 2 + 1 =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9 + 8 + 7 + 6 + 5 + 43 + 21 =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9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3  5  7  11  17 19  23  (Primzahl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A  F  K  P  U  Z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3  6  18  21  63  66  (+3  *3  +3  *3 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4  6  7  10  12  13  16  (+3  +2  +1  +3  +2  .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457200"/>
            <a:ext cx="6629400" cy="31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99  91  84  78  73  69  66  (-8  -7  -6  -5  -4  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  3  5  9  17  33  65 (immer die Zahl mit der um 1 kleineren Zahl addier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2  3  5  8  13  21  34  55  (immer die Zahl mit der letzten Zahl in der der Reihe addier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  9  2  8  3  7  4  6  5  (+8  -7  +6  -5  +4  -3  +2  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8 + 12 + 5 + 2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8 + 2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12 - 2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5 * 2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u"/>
              </a:rPr>
              <a:t>20 / 2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M1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777 + 777 + 77 + 7 = 86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8:37:30Z</dcterms:created>
  <dc:creator>Testuser</dc:creator>
  <dc:description/>
  <dc:language>en-US</dc:language>
  <cp:lastModifiedBy>ls21hcf</cp:lastModifiedBy>
  <cp:lastPrinted>2002-11-06T15:05:25Z</cp:lastPrinted>
  <dcterms:modified xsi:type="dcterms:W3CDTF">2002-11-06T15:31:03Z</dcterms:modified>
  <cp:revision>15</cp:revision>
  <dc:subject/>
  <dc:title>Kein Folientitel</dc:title>
</cp:coreProperties>
</file>