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morpheus.wav" ContentType="audio/x-wav"/>
  <Override PartName="/ppt/media/image17.png" ContentType="image/png"/>
  <Override PartName="/ppt/media/drama.wav" ContentType="audio/x-wav"/>
  <Override PartName="/ppt/media/image21.png" ContentType="image/png"/>
  <Override PartName="/ppt/media/BREMSE.WAV" ContentType="audio/x-wav"/>
  <Override PartName="/ppt/media/image19.png" ContentType="image/png"/>
  <Override PartName="/ppt/media/curve.wav" ContentType="audio/x-wav"/>
  <Override PartName="/ppt/media/image20.png" ContentType="image/png"/>
  <Override PartName="/ppt/media/image18.png" ContentType="image/png"/>
  <Override PartName="/ppt/media/EXPLSION.WAV" ContentType="audio/x-wav"/>
  <Override PartName="/ppt/media/beam.wav" ContentType="audio/x-wav"/>
  <Override PartName="/ppt/media/image7.png" ContentType="image/png"/>
  <Override PartName="/ppt/media/kling.wav" ContentType="audio/x-wav"/>
  <Override PartName="/ppt/media/image12.png" ContentType="image/png"/>
  <Override PartName="/ppt/media/image9.png" ContentType="image/png"/>
  <Override PartName="/ppt/media/strom.wav" ContentType="audio/x-wav"/>
  <Override PartName="/ppt/media/image4.png" ContentType="image/png"/>
  <Override PartName="/ppt/media/image8.png" ContentType="image/png"/>
  <Override PartName="/ppt/media/image13.png" ContentType="image/png"/>
  <Override PartName="/ppt/media/kongas.wav" ContentType="audio/x-wav"/>
  <Override PartName="/ppt/media/wallewal.wav" ContentType="audio/x-wav"/>
  <Override PartName="/ppt/media/pluck.wav" ContentType="audio/x-wav"/>
  <Override PartName="/ppt/media/cow.wav" ContentType="audio/x-wav"/>
  <Override PartName="/ppt/media/romans.wav" ContentType="audio/x-wav"/>
  <Override PartName="/ppt/media/image15.png" ContentType="image/png"/>
  <Override PartName="/ppt/media/image11.png" ContentType="image/png"/>
  <Override PartName="/ppt/media/falling.wav" ContentType="audio/x-wav"/>
  <Override PartName="/ppt/media/image14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3.png" ContentType="image/png"/>
  <Override PartName="/ppt/media/image2.png" ContentType="image/png"/>
  <Override PartName="/ppt/media/nature1.wav" ContentType="audio/x-wav"/>
  <Override PartName="/ppt/media/image1.png" ContentType="image/png"/>
  <Override PartName="/ppt/media/image16.png" ContentType="image/png"/>
  <Override PartName="/ppt/media/roll.wav" ContentType="audio/x-wav"/>
  <Override PartName="/ppt/media/beam2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B4A-1B8A-4031-A904-46E89309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A42-1ACC-4F67-A9E2-E6E094E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E62-6A53-4AEE-B31A-9DCD28DF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6FE-3082-4BFA-BB84-DB47A364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A94-0292-4566-AD76-61329BF5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43D-DFAE-4625-A11C-FC1C8A4F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77B-3045-4C79-A336-4DC02EB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DC4-2D6D-4E4C-A17D-869BF2CF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A69-53A7-48F5-8FEF-2DC6D36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5859-CED0-4280-9F74-2DC6D6C3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5A7-4017-466C-8352-2FAB09B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D02-68DE-4A48-8BA4-259B811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ADE47-8BAA-4FCB-9EE8-881FF96485C8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audio" Target="../media/beam.wav"/><Relationship Id="rId23" Type="http://schemas.openxmlformats.org/officeDocument/2006/relationships/audio" Target="../media/nature1.wav"/><Relationship Id="rId24" Type="http://schemas.openxmlformats.org/officeDocument/2006/relationships/audio" Target="../media/drama.wav"/><Relationship Id="rId25" Type="http://schemas.openxmlformats.org/officeDocument/2006/relationships/audio" Target="../media/beam2.wav"/><Relationship Id="rId26" Type="http://schemas.openxmlformats.org/officeDocument/2006/relationships/audio" Target="../media/applause.wav"/><Relationship Id="rId27" Type="http://schemas.openxmlformats.org/officeDocument/2006/relationships/audio" Target="../media/BREMSE.WAV"/><Relationship Id="rId28" Type="http://schemas.openxmlformats.org/officeDocument/2006/relationships/audio" Target="../media/curve.wav"/><Relationship Id="rId29" Type="http://schemas.openxmlformats.org/officeDocument/2006/relationships/audio" Target="../media/morpheus.wav"/><Relationship Id="rId30" Type="http://schemas.openxmlformats.org/officeDocument/2006/relationships/audio" Target="../media/kongas.wav"/><Relationship Id="rId31" Type="http://schemas.openxmlformats.org/officeDocument/2006/relationships/audio" Target="../media/drama.wav"/><Relationship Id="rId32" Type="http://schemas.openxmlformats.org/officeDocument/2006/relationships/audio" Target="../media/strom.wav"/><Relationship Id="rId33" Type="http://schemas.openxmlformats.org/officeDocument/2006/relationships/audio" Target="../media/kling.wav"/><Relationship Id="rId34" Type="http://schemas.openxmlformats.org/officeDocument/2006/relationships/audio" Target="../media/EXPLSION.WAV"/><Relationship Id="rId35" Type="http://schemas.openxmlformats.org/officeDocument/2006/relationships/audio" Target="../media/wallewal.wav"/><Relationship Id="rId36" Type="http://schemas.openxmlformats.org/officeDocument/2006/relationships/audio" Target="../media/cow.wav"/><Relationship Id="rId37" Type="http://schemas.openxmlformats.org/officeDocument/2006/relationships/audio" Target="../media/romans.wav"/><Relationship Id="rId38" Type="http://schemas.openxmlformats.org/officeDocument/2006/relationships/audio" Target="../media/pluck.wav"/><Relationship Id="rId39" Type="http://schemas.openxmlformats.org/officeDocument/2006/relationships/audio" Target="../media/roll.wav"/><Relationship Id="rId40" Type="http://schemas.openxmlformats.org/officeDocument/2006/relationships/audio" Target="../media/applause.wav"/><Relationship Id="rId41" Type="http://schemas.openxmlformats.org/officeDocument/2006/relationships/audio" Target="../media/wallewal.wav"/><Relationship Id="rId42" Type="http://schemas.openxmlformats.org/officeDocument/2006/relationships/audio" Target="../media/falling.wav"/><Relationship Id="rId4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orpheu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9280"/>
            <a:ext cx="2760840" cy="585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0360" y="900000"/>
            <a:ext cx="2808360" cy="46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119640" y="360360"/>
            <a:ext cx="2665440" cy="56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532240" y="6794640"/>
            <a:ext cx="3047760" cy="585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2879640"/>
            <a:ext cx="357372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529320" y="1766880"/>
            <a:ext cx="3191040" cy="75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2365200" y="2160720"/>
            <a:ext cx="3573720" cy="752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060560" y="1477800"/>
            <a:ext cx="4338360" cy="681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896160" y="2535120"/>
            <a:ext cx="228276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496800" y="3554280"/>
            <a:ext cx="2187720" cy="68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5881680" y="3419640"/>
            <a:ext cx="3478320" cy="53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3240000" y="4140360"/>
            <a:ext cx="290520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4680000" y="900000"/>
            <a:ext cx="333540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360360" y="4859280"/>
            <a:ext cx="2330280" cy="72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3308400" y="4859280"/>
            <a:ext cx="2092320" cy="633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5918040" y="5078520"/>
            <a:ext cx="3622680" cy="680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079640" y="5533920"/>
            <a:ext cx="2712960" cy="5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3979800" y="5580000"/>
            <a:ext cx="2139840" cy="72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6300720" y="5846760"/>
            <a:ext cx="285768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479520" y="6119640"/>
            <a:ext cx="2760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300720" y="6659640"/>
            <a:ext cx="287964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7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2" name="beam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7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3" name="nature1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7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4" name="dram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7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5" name="beam2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7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6" name="applause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7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7" name="BREMSE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8" name="curve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7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9" name="morpheu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7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0" name="konga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7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1" name="drama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7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2" name="strom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3" name="kling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7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4" name="EXPLSION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7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5" name="wallewal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7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6" name="cow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7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7" name="romans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7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8" name="pluck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9" name="roll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7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0" name="applause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7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1" name="wallewal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7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2" name="falling.wav"/>
                                  </p:tgtEl>
                                </p:cMediaNode>
                              </p:audio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40000" y="1619280"/>
            <a:ext cx="61196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Born to be lov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==&gt;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Born to lo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40000" y="1619280"/>
            <a:ext cx="611964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Born to be love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==&gt;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Comic Sans MS"/>
              </a:rPr>
              <a:t>Born to lo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1260360"/>
            <a:ext cx="84600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Johannes fasst Gottes Absicht mit den Menschen so zusammen (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Joh. 3,16)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Gott hat die Menschen so sehr geliebt, daß er seinen einzigen Sohn hergab.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79640" y="900000"/>
            <a:ext cx="809928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Und an anderer Stelle sagt er über die Christen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1.Joh. 4,19)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ir lieben, weil Gott uns zuerst geliebt h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79640" y="720720"/>
            <a:ext cx="774036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Und der Apostel Paulus schlussfolgert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Römerbrief 12,1)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Brüder und Schwestern, weil Gott soviel Erbarmen mit euch gehabt hat, bitte und ermahne ich euch: Stellt euer ganzes Leben Gott zur Verfügu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60360" y="2340000"/>
            <a:ext cx="8280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ir sollen durch da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was wir tu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und wie wir uns verhalten, Gott groß rauskommen la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539640"/>
            <a:ext cx="719928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Also, wozu leben wir? 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Paulus meint: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(Epheser 1,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9640" y="720720"/>
            <a:ext cx="918072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Wie geht d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Was kannst du tun, damit Gott beachtet und geachtet wird, wie es ihm zuste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500720"/>
            <a:ext cx="89996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Was willst du dir deshalb vornehm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6:49:16Z</dcterms:created>
  <dc:creator>Volker Glaser</dc:creator>
  <dc:description/>
  <dc:language>en-US</dc:language>
  <cp:lastModifiedBy>Presch</cp:lastModifiedBy>
  <dcterms:modified xsi:type="dcterms:W3CDTF">2010-04-13T06:33:07Z</dcterms:modified>
  <cp:revision>16</cp:revision>
  <dc:subject/>
  <dc:title>Folie 1</dc:title>
</cp:coreProperties>
</file>