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sldImg"/>
          </p:nvPr>
        </p:nvSpPr>
        <p:spPr>
          <a:xfrm>
            <a:off x="1106640" y="812520"/>
            <a:ext cx="5340240" cy="40035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5640" y="5078520"/>
            <a:ext cx="6043680" cy="48067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6720" cy="5302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4"/>
          <p:cNvSpPr>
            <a:spLocks noGrp="1"/>
          </p:cNvSpPr>
          <p:nvPr>
            <p:ph type="dt" idx="4"/>
          </p:nvPr>
        </p:nvSpPr>
        <p:spPr>
          <a:xfrm>
            <a:off x="4278240" y="-360"/>
            <a:ext cx="3276720" cy="5302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5"/>
          <p:cNvSpPr>
            <a:spLocks noGrp="1"/>
          </p:cNvSpPr>
          <p:nvPr>
            <p:ph type="ftr" idx="5"/>
          </p:nvPr>
        </p:nvSpPr>
        <p:spPr>
          <a:xfrm>
            <a:off x="0" y="10156320"/>
            <a:ext cx="3276720" cy="5302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4278240" y="10156320"/>
            <a:ext cx="3276720" cy="5302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0B5592-7550-4462-9CD2-463E229CAB03}"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AF8210-AD93-4070-8B09-B50495C5E68F}"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8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F7D9FB-3F78-46B9-8BD8-BD2418930B0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0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A92E80-AF93-4AE1-A1BD-0EB8410FAD19}"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1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E2E1E3-349F-4BF9-B31D-ADDDACA6EC68}"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1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5"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980458-AC9D-48D7-959A-04DE4F49185D}"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1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7463BD-FA08-4E77-AEF1-1551AEA96142}"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1"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894844-4DED-43D1-B76A-9AF6E1E94608}"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89DB6C-A0CB-4931-AD15-3EC91C166E0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7000FD-E387-4516-980B-9CC481ED11E6}"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72CEBB-E457-46C7-BE19-BE00235A5C55}"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2"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3"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F293A3-7ABB-4654-B9B9-5323BEC34A3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8BD4DA-933A-4C6A-BC41-B79E5E1C5DA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8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D6AD7A-13C2-44C2-99A6-5DDA5730C115}"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8"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9"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B72A81-073D-4825-AB3B-5C0C781AD803}"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1"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366226-8407-4602-934B-B9BF4886C5E8}"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4"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9CAD7E-EE72-4637-9344-23218F4EB2D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7"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33CB3C-D40B-4671-B70F-3AB72ADBD6F3}"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50"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1A9E55-C128-4120-982D-3BAA4F304293}"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53"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14188EB-C62B-4B69-A0EA-804514780798}"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56" name="Text Box 1"/>
          <p:cNvSpPr/>
          <p:nvPr/>
        </p:nvSpPr>
        <p:spPr>
          <a:xfrm>
            <a:off x="1106640" y="812880"/>
            <a:ext cx="534348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586EF6-4003-4182-AD2A-48CCDB8BCBAE}"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8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42ACD3-CAC1-4EC2-B9FF-3B4E014DBAFA}"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9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2CE3DB-2948-4FFC-BF6F-6BB6F3E2AD9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9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119CFD-C543-4027-ADD8-B526D02428D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9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426CB1-5F2E-445A-9FC1-87C25A92BC31}"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9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5100E2-F5F3-463F-83F7-0DC37AE4072B}"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0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8"/>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E1D9F28-74D7-4E67-BCE3-AADF1E6AE166}"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0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PlaceHolder 1"/>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AC912-215A-4BCC-9B87-A7096575B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128A8-3B9A-4058-AFBD-651125981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0268E-0E9F-4EBE-8EF6-AB12B2763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E51D-A8EF-4189-8840-ABBCAFF7A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11F5C-FBD2-46B2-928B-D06196B65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E22FB-EED9-4550-BD8A-01514D1D5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9EB1-6BEF-49B7-8F70-EAE8FFAFF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116FB-6911-4DE4-9D8B-9B81EFB4C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7379-337A-4EC3-8412-7DF3BBAEB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2069D-99D7-4637-A900-81F568E38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666A8-2D29-4081-B87F-32C9F5A8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164E-19CB-4E16-A53C-3D2A3F82A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000000"/>
                </a:solidFill>
                <a:latin typeface="Times New Roman"/>
                <a:ea typeface="Lucida Sans Unicode"/>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A0DF01-CD87-47A3-8C7E-8FB68B41FB4C}" type="slidenum">
              <a:rPr b="0" lang="de-DE"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1619280" y="1260360"/>
            <a:ext cx="6480000" cy="7272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Zu Beginn ein Beispiel:</a:t>
            </a:r>
            <a:endParaRPr b="0" lang="en-US" sz="3600" spc="-1" strike="noStrike">
              <a:solidFill>
                <a:srgbClr val="ffffff"/>
              </a:solidFill>
              <a:latin typeface="Arial"/>
            </a:endParaRPr>
          </a:p>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Arial"/>
            </a:endParaRPr>
          </a:p>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Ein Zesteur ist...</a:t>
            </a: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720720" y="720720"/>
            <a:ext cx="8999640" cy="257508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Comic Sans MS"/>
              </a:rPr>
              <a:t>Das Nageleisen, auch Kuhfuß oder Geißfuß, ist ein Werkzeug zum Nägelziehen und allgemeiner zum Hebeln, ähnlich einer Brechstange, meist 10 bis 100 cm lang. Der vordere Teil (die Klaue) ist bis zu 90 Grad abgewinkelt und eingekerbt. </a:t>
            </a:r>
            <a:endParaRPr b="0" lang="en-US" sz="2800" spc="-1" strike="noStrike">
              <a:solidFill>
                <a:srgbClr val="ffffff"/>
              </a:solidFill>
              <a:latin typeface="Arial"/>
            </a:endParaRPr>
          </a:p>
        </p:txBody>
      </p:sp>
      <p:pic>
        <p:nvPicPr>
          <p:cNvPr id="62" name="Picture 2" descr=""/>
          <p:cNvPicPr/>
          <p:nvPr/>
        </p:nvPicPr>
        <p:blipFill>
          <a:blip r:embed="rId1"/>
          <a:stretch/>
        </p:blipFill>
        <p:spPr>
          <a:xfrm>
            <a:off x="885960" y="3419640"/>
            <a:ext cx="5954400" cy="3251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720720" y="900000"/>
            <a:ext cx="8280360" cy="136548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as ist ein Champagnersäbel? Wozu dient er? Wie wird er benutzt?</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1"/>
          <p:cNvSpPr/>
          <p:nvPr/>
        </p:nvSpPr>
        <p:spPr>
          <a:xfrm>
            <a:off x="539640" y="360360"/>
            <a:ext cx="9180720" cy="56214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omic Sans MS"/>
              </a:rPr>
              <a:t>In gehobenen Kreisen und guten gastronomischen Fachbetrieben erfolgt die ritualisierte Öffnung der Champagnerflasche mit dem Champagnersäbel, auch sabrieren genannt. Hierzu wird der Champagnersäbel mit der Schneide am Bauch der Flasche eine Fingerbreite über dem Etikett (welches nicht berührt werden darf) angesetzt. Unter einem Winkel von ca. 20 Grad wird der Säbel in einer fließenden Bewegung auf den Flaschenhals zu bewegt und schlägt von unten gegen den Wulst des Flaschenkopfes, möglichst an der Stelle, wo die Längsnaht in den Querwulst übergeht. Dabei wird der Kopf der Champagnerflasche mit dem Wulst und dem Korken abgeschlagen. Er kann dabei bis zu 20 Meter weit fliegen.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900000" y="720720"/>
            <a:ext cx="7740720" cy="672948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800" spc="-1" strike="noStrike">
                <a:solidFill>
                  <a:srgbClr val="000000"/>
                </a:solidFill>
                <a:latin typeface="Comic Sans MS"/>
              </a:rPr>
              <a:t>Eventuelle Glassplitter werden durch den Druck des austretenden Schaumweines weg geschleudert. In Frankreich ist es üblich, den abgeschlagenen Kopf und Korken mit dem Datum der Zeremonie zu beschriften und den Kopf als Glücksbringer aufzubewahren. Der geübte Sabreur öffnet die Flasche unter nur geringem Verlust des Schaumweins. Begründet wurde die Tradition des „Sabrage“-Rituals mit dem Briquet-Säbel durch Napoleon nach einer gewonnenen Schlacht während des Russlandfeldzuges im Jahr 1812.</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1"/>
          <p:cNvSpPr/>
          <p:nvPr/>
        </p:nvSpPr>
        <p:spPr>
          <a:xfrm>
            <a:off x="539640" y="1079640"/>
            <a:ext cx="8280360" cy="72684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as ist ein Tjanting?</a:t>
            </a:r>
            <a:endParaRPr b="0" lang="en-US" sz="3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900000" y="1079640"/>
            <a:ext cx="8280360" cy="519588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omic Sans MS"/>
              </a:rPr>
              <a:t>Ein Tjanting  ist ein Werkzeug aus Indonesien, um mit flüssigem Wachs bei der Batik-Technik auf Stoff zu malen.</a:t>
            </a:r>
            <a:endParaRPr b="0" lang="en-US" sz="2400" spc="-1" strike="noStrike">
              <a:solidFill>
                <a:srgbClr val="ffffff"/>
              </a:solidFill>
              <a:latin typeface="Arial"/>
            </a:endParaRPr>
          </a:p>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400" spc="-1" strike="noStrike">
                <a:solidFill>
                  <a:srgbClr val="000000"/>
                </a:solidFill>
                <a:latin typeface="Comic Sans MS"/>
              </a:rPr>
              <a:t>An einem Stiel befindet sich ein kleines Metallgefäß aus Kupfer oder Messing, aus dem eine Tülle führt. Dieses Kännchen wird mit heißem flüssigen Wachs gefüllt, welches dann durch die Tülle kontinuierlich fließt oder tropft. Wie mit einem Füllfederhalter kann man mit der Tülle auf den Stoff schreiben oder zeichnen. Mit dem so aufgebrachten Wachs werden Flächen abgedeckt, die beim folgenden Färbegang keine Farbe annehmen.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1641600" y="1320840"/>
            <a:ext cx="6829200" cy="5124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1440000" y="1619280"/>
            <a:ext cx="701964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ozu dient ein Dreget?</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1"/>
          <p:cNvSpPr/>
          <p:nvPr/>
        </p:nvSpPr>
        <p:spPr>
          <a:xfrm>
            <a:off x="1079640" y="1619280"/>
            <a:ext cx="7559640" cy="3673440"/>
          </a:xfrm>
          <a:prstGeom prst="rect">
            <a:avLst/>
          </a:prstGeom>
          <a:noFill/>
          <a:ln w="0">
            <a:noFill/>
          </a:ln>
        </p:spPr>
        <p:style>
          <a:lnRef idx="0"/>
          <a:fillRef idx="0"/>
          <a:effectRef idx="0"/>
          <a:fontRef idx="minor"/>
        </p:style>
        <p:txBody>
          <a:bodyPr lIns="90000" rIns="90000" tIns="7668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Arial"/>
              </a:rPr>
              <a:t>Das</a:t>
            </a:r>
            <a:r>
              <a:rPr b="1" lang="de-DE" sz="3600" spc="-1" strike="noStrike">
                <a:solidFill>
                  <a:srgbClr val="000000"/>
                </a:solidFill>
                <a:latin typeface="Arial"/>
              </a:rPr>
              <a:t> Dreget </a:t>
            </a:r>
            <a:r>
              <a:rPr b="0" lang="de-DE" sz="3600" spc="-1" strike="noStrike">
                <a:solidFill>
                  <a:srgbClr val="000000"/>
                </a:solidFill>
                <a:latin typeface="Arial"/>
              </a:rPr>
              <a:t>(auch Sammetmesser, Samtmesser, Sammethaken oder Samthaken) ist ein Werkzeug von der Art eines Messers. Es dient dem Aufschneiden der Maschen eines Samtstoffes, so dass geschnittener oder gerissener Samt entsteht. </a:t>
            </a: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539640" y="720720"/>
            <a:ext cx="9180720" cy="590868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Der Zesteur (Zestenreißer) ist ein kleines Küchenwerkzeug zum Herstellen von hauchdünnen, bitterstoff-freien Schalenstreifen von Orangen und anderen Zitrusfrüchten, den sog. Zesten. Diese Streifen werden zum Aromatisieren vieler Speisen genutzt. </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1440000" y="1979640"/>
            <a:ext cx="7199280" cy="1440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Comic Sans MS"/>
              </a:rPr>
              <a:t>Wozu dient die Flotte Lotte?</a:t>
            </a:r>
            <a:endParaRPr b="0" lang="en-US" sz="3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1"/>
          <p:cNvSpPr/>
          <p:nvPr/>
        </p:nvSpPr>
        <p:spPr>
          <a:xfrm>
            <a:off x="900000" y="539640"/>
            <a:ext cx="8820360" cy="31514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Comic Sans MS"/>
              </a:rPr>
              <a:t>Eine Flotte Lotte (auch Passiermühle, Gemüsemühle, Passiergerät, Passe-vite oder Passetout) (Schweiz: nur Passevite) ist ein Küchengerät, das zum Passieren von Früchten, Gemüse oder anderen Lebensmitteln dient. </a:t>
            </a:r>
            <a:endParaRPr b="0" lang="en-US" sz="3600" spc="-1" strike="noStrike">
              <a:solidFill>
                <a:srgbClr val="ffffff"/>
              </a:solidFill>
              <a:latin typeface="Arial"/>
            </a:endParaRPr>
          </a:p>
        </p:txBody>
      </p:sp>
      <p:pic>
        <p:nvPicPr>
          <p:cNvPr id="73" name="Picture 2" descr=""/>
          <p:cNvPicPr/>
          <p:nvPr/>
        </p:nvPicPr>
        <p:blipFill>
          <a:blip r:embed="rId1"/>
          <a:stretch/>
        </p:blipFill>
        <p:spPr>
          <a:xfrm>
            <a:off x="1800360" y="3666960"/>
            <a:ext cx="6134040" cy="3353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1"/>
          <p:cNvSpPr/>
          <p:nvPr/>
        </p:nvSpPr>
        <p:spPr>
          <a:xfrm>
            <a:off x="1079640" y="900000"/>
            <a:ext cx="809928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ozu dient ein  Egg Coddler?</a:t>
            </a:r>
            <a:endParaRPr b="0" lang="en-US" sz="3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900000" y="720720"/>
            <a:ext cx="8640720" cy="2641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Ein Egg Coddler ist ein Gefäß zum Erhitzen von rohen Eiern, in der Regel vermischt mit diversen Gewürzen und anderen Zutaten. Der Egg Coddler ist vor allem in England verbreitet. </a:t>
            </a:r>
            <a:endParaRPr b="0" lang="en-US" sz="3600" spc="-1" strike="noStrike">
              <a:solidFill>
                <a:srgbClr val="ffffff"/>
              </a:solidFill>
              <a:latin typeface="Arial"/>
            </a:endParaRPr>
          </a:p>
        </p:txBody>
      </p:sp>
      <p:pic>
        <p:nvPicPr>
          <p:cNvPr id="76" name="Picture 2" descr=""/>
          <p:cNvPicPr/>
          <p:nvPr/>
        </p:nvPicPr>
        <p:blipFill>
          <a:blip r:embed="rId1"/>
          <a:stretch/>
        </p:blipFill>
        <p:spPr>
          <a:xfrm>
            <a:off x="938160" y="3780000"/>
            <a:ext cx="3381480" cy="3240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720720" y="1079640"/>
            <a:ext cx="7740720" cy="599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ozu dient der Pistill?</a:t>
            </a:r>
            <a:endParaRPr b="0" lang="en-US" sz="3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1"/>
          <p:cNvSpPr/>
          <p:nvPr/>
        </p:nvSpPr>
        <p:spPr>
          <a:xfrm>
            <a:off x="900000" y="900000"/>
            <a:ext cx="7740720" cy="26416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Der Pistill ist ein Werkzeug, mit dem Reibegut in einer Reibschale zerkleinert wird oder das zur Herstellung von Salben und Cremes in einer Fantaschale genutzt wird. </a:t>
            </a:r>
            <a:endParaRPr b="0" lang="en-US" sz="3600" spc="-1" strike="noStrike">
              <a:solidFill>
                <a:srgbClr val="ffffff"/>
              </a:solidFill>
              <a:latin typeface="Arial"/>
            </a:endParaRPr>
          </a:p>
        </p:txBody>
      </p:sp>
      <p:pic>
        <p:nvPicPr>
          <p:cNvPr id="79" name="Picture 2" descr=""/>
          <p:cNvPicPr/>
          <p:nvPr/>
        </p:nvPicPr>
        <p:blipFill>
          <a:blip r:embed="rId1"/>
          <a:stretch/>
        </p:blipFill>
        <p:spPr>
          <a:xfrm>
            <a:off x="1079640" y="3780000"/>
            <a:ext cx="3600360" cy="2828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
          <p:cNvPicPr/>
          <p:nvPr/>
        </p:nvPicPr>
        <p:blipFill>
          <a:blip r:embed="rId1"/>
          <a:stretch/>
        </p:blipFill>
        <p:spPr>
          <a:xfrm>
            <a:off x="1246320" y="2630520"/>
            <a:ext cx="7619760" cy="228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260360" y="1619280"/>
            <a:ext cx="7380360" cy="7272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Jetzt geht´s lo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1246320" y="1220760"/>
            <a:ext cx="7619760" cy="5105520"/>
          </a:xfrm>
          <a:prstGeom prst="rect">
            <a:avLst/>
          </a:prstGeom>
          <a:ln w="0">
            <a:noFill/>
          </a:ln>
        </p:spPr>
      </p:pic>
      <p:sp>
        <p:nvSpPr>
          <p:cNvPr id="55" name="Text Box 2"/>
          <p:cNvSpPr/>
          <p:nvPr/>
        </p:nvSpPr>
        <p:spPr>
          <a:xfrm>
            <a:off x="1260360" y="360360"/>
            <a:ext cx="7740720" cy="7272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as ist das? Wozu dient da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1260360" y="1619280"/>
            <a:ext cx="7380360" cy="72720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Es sind Rouladenklammern</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1440000" y="1979640"/>
            <a:ext cx="6659280" cy="136512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ozu dient die Küchen-Minna?</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5907240" y="900000"/>
            <a:ext cx="3813120" cy="3959280"/>
          </a:xfrm>
          <a:prstGeom prst="rect">
            <a:avLst/>
          </a:prstGeom>
          <a:ln w="0">
            <a:noFill/>
          </a:ln>
        </p:spPr>
      </p:pic>
      <p:sp>
        <p:nvSpPr>
          <p:cNvPr id="59" name="Text Box 2"/>
          <p:cNvSpPr/>
          <p:nvPr/>
        </p:nvSpPr>
        <p:spPr>
          <a:xfrm>
            <a:off x="539640" y="720720"/>
            <a:ext cx="5219640" cy="456084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Comic Sans MS"/>
              </a:rPr>
              <a:t>Die Küchen-Minna ist eine handbetriebene Küchenmaschine zum Schnitzeln, Reiben, Schneiden, Raspeln und Entsaften von Gemüse, Obst u. ä. Sie wird seit den 1950er Jahren weitgehend unverändert  hergestellt.</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720720" y="1260360"/>
            <a:ext cx="6480360" cy="2001960"/>
          </a:xfrm>
          <a:prstGeom prst="rect">
            <a:avLst/>
          </a:prstGeom>
          <a:noFill/>
          <a:ln w="0">
            <a:noFill/>
          </a:ln>
        </p:spPr>
        <p:style>
          <a:lnRef idx="0"/>
          <a:fillRef idx="0"/>
          <a:effectRef idx="0"/>
          <a:fontRef idx="minor"/>
        </p:style>
        <p:txBody>
          <a:bodyPr lIns="90000" rIns="90000" tIns="45000" bIns="45000" anchor="t">
            <a:noAutofit/>
          </a:bodyPr>
          <a:p>
            <a:pPr>
              <a:lnSpc>
                <a:spcPct val="11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3600" spc="-1" strike="noStrike">
                <a:solidFill>
                  <a:srgbClr val="000000"/>
                </a:solidFill>
                <a:latin typeface="Comic Sans MS"/>
              </a:rPr>
              <a:t>Was ist ein „Kuhfuß“?, der kein Körperteil eines Rindes ist?</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2T13:30:46Z</dcterms:created>
  <dc:creator>Volker Glaser</dc:creator>
  <dc:description/>
  <dc:language>en-US</dc:language>
  <cp:lastModifiedBy>Heike Volz</cp:lastModifiedBy>
  <dcterms:modified xsi:type="dcterms:W3CDTF">2010-01-13T14:31:26Z</dcterms:modified>
  <cp:revision>2</cp:revision>
  <dc:subject/>
  <dc:title>Folie 1</dc:title>
</cp:coreProperties>
</file>